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476280" y="402840"/>
            <a:ext cx="5897520" cy="442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240" y="6381720"/>
            <a:ext cx="59180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36240" y="9340560"/>
            <a:ext cx="7718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 - </a:t>
            </a:r>
            <a:fld id="{92625F6F-C452-44B0-B65C-FD7E7A7C91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7720" y="5276880"/>
            <a:ext cx="5905440" cy="781200"/>
            <a:chOff x="477720" y="5276880"/>
            <a:chExt cx="5905440" cy="781200"/>
          </a:xfrm>
        </p:grpSpPr>
        <p:sp>
          <p:nvSpPr>
            <p:cNvPr id="47" name=""/>
            <p:cNvSpPr/>
            <p:nvPr/>
          </p:nvSpPr>
          <p:spPr>
            <a:xfrm>
              <a:off x="477720" y="5276880"/>
              <a:ext cx="5905440" cy="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77720" y="5651280"/>
              <a:ext cx="5905440" cy="190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7720" y="6051600"/>
              <a:ext cx="5905440" cy="64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87440" y="9283680"/>
            <a:ext cx="5877000" cy="4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8960" y="9340560"/>
            <a:ext cx="660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190440" indent="-190440" algn="ctr">
              <a:lnSpc>
                <a:spcPct val="90000"/>
              </a:lnSpc>
              <a:buClr>
                <a:srgbClr val="000000"/>
              </a:buClr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1640" y="9340560"/>
            <a:ext cx="7671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468360" y="393840"/>
            <a:ext cx="5894280" cy="4421160"/>
          </a:xfrm>
          <a:prstGeom prst="rect">
            <a:avLst/>
          </a:prstGeom>
          <a:ln w="0">
            <a:noFill/>
          </a:ln>
        </p:spPr>
      </p:sp>
      <p:grpSp>
        <p:nvGrpSpPr>
          <p:cNvPr id="570" name=""/>
          <p:cNvGrpSpPr/>
          <p:nvPr/>
        </p:nvGrpSpPr>
        <p:grpSpPr>
          <a:xfrm>
            <a:off x="477720" y="5276880"/>
            <a:ext cx="5905440" cy="781200"/>
            <a:chOff x="477720" y="5276880"/>
            <a:chExt cx="5905440" cy="781200"/>
          </a:xfrm>
        </p:grpSpPr>
        <p:sp>
          <p:nvSpPr>
            <p:cNvPr id="571" name=""/>
            <p:cNvSpPr/>
            <p:nvPr/>
          </p:nvSpPr>
          <p:spPr>
            <a:xfrm>
              <a:off x="477720" y="5276880"/>
              <a:ext cx="5905440" cy="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77720" y="5651280"/>
              <a:ext cx="5905440" cy="190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7720" y="6051600"/>
              <a:ext cx="5905440" cy="64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87440" y="9282240"/>
            <a:ext cx="5877000" cy="4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8960" y="9339120"/>
            <a:ext cx="660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190440" indent="-190440" algn="ctr">
              <a:lnSpc>
                <a:spcPct val="90000"/>
              </a:lnSpc>
              <a:buClr>
                <a:srgbClr val="000000"/>
              </a:buClr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90320" y="6400440"/>
            <a:ext cx="58417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78012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7640" y="3556080"/>
            <a:ext cx="78012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508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7640" y="3556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5080" y="3556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5360" y="1476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080" y="1476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7640" y="3556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5360" y="3556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080" y="3556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7640" y="1476360"/>
            <a:ext cx="78012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78012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38066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5080" y="1476360"/>
            <a:ext cx="38066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2440" y="436320"/>
            <a:ext cx="873432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080" y="1476360"/>
            <a:ext cx="38066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7640" y="3556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38066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08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5080" y="3556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080" y="1476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3556080"/>
            <a:ext cx="78012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77120" y="6581880"/>
            <a:ext cx="2666880" cy="276120"/>
          </a:xfrm>
          <a:custGeom>
            <a:avLst/>
            <a:gdLst/>
            <a:ahLst/>
            <a:rect l="l" t="t" r="r" b="b"/>
            <a:pathLst>
              <a:path w="4084" h="174">
                <a:moveTo>
                  <a:pt x="0" y="0"/>
                </a:moveTo>
                <a:lnTo>
                  <a:pt x="4083" y="0"/>
                </a:lnTo>
                <a:lnTo>
                  <a:pt x="4083" y="173"/>
                </a:lnTo>
                <a:lnTo>
                  <a:pt x="0" y="173"/>
                </a:lnTo>
                <a:lnTo>
                  <a:pt x="0" y="0"/>
                </a:lnTo>
              </a:path>
            </a:pathLst>
          </a:custGeom>
          <a:solidFill>
            <a:srgbClr val="001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7640" y="1476360"/>
            <a:ext cx="78012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375"/>
              </a:spcAft>
              <a:buClr>
                <a:srgbClr val="0019d1"/>
              </a:buClr>
              <a:buSzPct val="8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71440">
              <a:spcAft>
                <a:spcPts val="1375"/>
              </a:spcAft>
              <a:buClr>
                <a:srgbClr val="0019d1"/>
              </a:buClr>
              <a:buSzPct val="125000"/>
              <a:buFont typeface="Wingdings" charset="2"/>
              <a:buChar char="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spcAft>
                <a:spcPts val="1375"/>
              </a:spcAft>
              <a:buClr>
                <a:srgbClr val="0019d1"/>
              </a:buClr>
              <a:buSzPct val="75000"/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9240" indent="-271440">
              <a:spcAft>
                <a:spcPts val="1375"/>
              </a:spcAft>
              <a:buClr>
                <a:srgbClr val="0019d1"/>
              </a:buClr>
              <a:buFont typeface="Wingdings" charset="2"/>
              <a:buChar char="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9240" indent="-271440">
              <a:spcAft>
                <a:spcPts val="13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9240" indent="-271440">
              <a:spcAft>
                <a:spcPts val="13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6483240" cy="276120"/>
          </a:xfrm>
          <a:custGeom>
            <a:avLst/>
            <a:gdLst/>
            <a:ahLst/>
            <a:rect l="l" t="t" r="r" b="b"/>
            <a:pathLst>
              <a:path w="4084" h="174">
                <a:moveTo>
                  <a:pt x="0" y="0"/>
                </a:moveTo>
                <a:lnTo>
                  <a:pt x="4083" y="0"/>
                </a:lnTo>
                <a:lnTo>
                  <a:pt x="4083" y="173"/>
                </a:lnTo>
                <a:lnTo>
                  <a:pt x="0" y="173"/>
                </a:lnTo>
                <a:lnTo>
                  <a:pt x="0" y="0"/>
                </a:lnTo>
              </a:path>
            </a:pathLst>
          </a:custGeom>
          <a:solidFill>
            <a:srgbClr val="001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37920" y="6553080"/>
            <a:ext cx="21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iegfried Schreu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6960" y="-3168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rojekt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Projektmanagement%20Referenzordner/Verantwortlichkeitsmatrix.doc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../Projektmanagement%20Referenzordner/Kommunikationsplan.doc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ormular-Vorlagen/Projektplan-Vorlage.xls" TargetMode="External"/><Relationship Id="rId2" Type="http://schemas.openxmlformats.org/officeDocument/2006/relationships/hyperlink" Target="file:///Formular-Vorlagen/RisikoPlan-Vorlage.xls" TargetMode="External"/><Relationship Id="rId3" Type="http://schemas.openxmlformats.org/officeDocument/2006/relationships/hyperlink" Target="file:///Formular-Vorlagen/Verantwortlichkeitsmatrix-Vorlage.doc" TargetMode="External"/><Relationship Id="rId4" Type="http://schemas.openxmlformats.org/officeDocument/2006/relationships/hyperlink" Target="file:///Formular-Vorlagen/Kommunikationsplan-Vorlage.doc" TargetMode="External"/><Relationship Id="rId5" Type="http://schemas.openxmlformats.org/officeDocument/2006/relationships/hyperlink" Target="file:///Formular-Vorlagen/Offene%20Punkte%20Liste.xls" TargetMode="External"/><Relationship Id="rId6" Type="http://schemas.openxmlformats.org/officeDocument/2006/relationships/hyperlink" Target="file:///Formular-Vorlagen/Masterplan.xls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8120" y="2590920"/>
            <a:ext cx="441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jekt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957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74760" y="2666880"/>
            <a:ext cx="1468440" cy="14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mensionen der Steu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371600"/>
            <a:ext cx="4724280" cy="3886200"/>
          </a:xfrm>
          <a:prstGeom prst="triangle">
            <a:avLst>
              <a:gd name="adj" fmla="val 50000"/>
            </a:avLst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9000" y="5257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36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990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mensionen der Steu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1371600"/>
            <a:ext cx="4724280" cy="3886200"/>
          </a:xfrm>
          <a:prstGeom prst="triangle">
            <a:avLst>
              <a:gd name="adj" fmla="val 50000"/>
            </a:avLst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9000" y="5257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36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7600" y="990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43200" y="1371600"/>
            <a:ext cx="4724280" cy="388620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518148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518148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mensionen der Steu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1371600"/>
            <a:ext cx="4724280" cy="3886200"/>
          </a:xfrm>
          <a:prstGeom prst="triangle">
            <a:avLst>
              <a:gd name="adj" fmla="val 50000"/>
            </a:avLst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9000" y="5257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36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990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2057400"/>
            <a:ext cx="3886200" cy="320040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518148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1447920"/>
            <a:ext cx="3049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04920" y="1143000"/>
            <a:ext cx="1904760" cy="1905120"/>
          </a:xfrm>
          <a:prstGeom prst="rect">
            <a:avLst/>
          </a:prstGeom>
          <a:solidFill>
            <a:srgbClr val="0019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überwa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219320"/>
            <a:ext cx="182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ll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Proj.-Plan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42520" y="11955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rtt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11955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t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42520" y="1881360"/>
            <a:ext cx="2312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arbeitungs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O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In 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Fertiggestel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51040" y="188136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ichtlicher  Endt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38080" y="3657600"/>
            <a:ext cx="7925040" cy="657000"/>
            <a:chOff x="838080" y="3657600"/>
            <a:chExt cx="7925040" cy="657000"/>
          </a:xfrm>
        </p:grpSpPr>
        <p:sp>
          <p:nvSpPr>
            <p:cNvPr id="396" name=""/>
            <p:cNvSpPr/>
            <p:nvPr/>
          </p:nvSpPr>
          <p:spPr>
            <a:xfrm>
              <a:off x="838080" y="3657600"/>
              <a:ext cx="609840" cy="6094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0200" y="3733920"/>
              <a:ext cx="716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Endtermin liegt vor oder genau auf dem geplanten Endter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38080" y="4343400"/>
            <a:ext cx="7750440" cy="609480"/>
            <a:chOff x="838080" y="4343400"/>
            <a:chExt cx="7750440" cy="609480"/>
          </a:xfrm>
        </p:grpSpPr>
        <p:sp>
          <p:nvSpPr>
            <p:cNvPr id="399" name=""/>
            <p:cNvSpPr/>
            <p:nvPr/>
          </p:nvSpPr>
          <p:spPr>
            <a:xfrm>
              <a:off x="838080" y="43434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371840"/>
              <a:ext cx="69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Endtermin liegt später als der geplante, hat aber keine verspätende Wirkung auf den nächsten Meilensteinter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838080" y="5029200"/>
            <a:ext cx="7772400" cy="609480"/>
            <a:chOff x="838080" y="5029200"/>
            <a:chExt cx="7772400" cy="609480"/>
          </a:xfrm>
        </p:grpSpPr>
        <p:sp>
          <p:nvSpPr>
            <p:cNvPr id="402" name=""/>
            <p:cNvSpPr/>
            <p:nvPr/>
          </p:nvSpPr>
          <p:spPr>
            <a:xfrm>
              <a:off x="838080" y="5029200"/>
              <a:ext cx="609840" cy="609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60600" y="5057640"/>
              <a:ext cx="704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Endtermin liegt später als der gepla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d hat verspätende Wirkung auf den nächsten Meilensteinter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304920" y="1143000"/>
            <a:ext cx="838188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1430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9051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04920" y="3184560"/>
            <a:ext cx="8381880" cy="398880"/>
            <a:chOff x="304920" y="3184560"/>
            <a:chExt cx="8381880" cy="398880"/>
          </a:xfrm>
        </p:grpSpPr>
        <p:sp>
          <p:nvSpPr>
            <p:cNvPr id="408" name=""/>
            <p:cNvSpPr/>
            <p:nvPr/>
          </p:nvSpPr>
          <p:spPr>
            <a:xfrm>
              <a:off x="304920" y="3200400"/>
              <a:ext cx="8381880" cy="380880"/>
            </a:xfrm>
            <a:prstGeom prst="rect">
              <a:avLst/>
            </a:prstGeom>
            <a:solidFill>
              <a:srgbClr val="001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5320" y="318456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Zeitfla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09680" y="32004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4920" y="1143000"/>
            <a:ext cx="1904760" cy="1905120"/>
          </a:xfrm>
          <a:prstGeom prst="rect">
            <a:avLst/>
          </a:prstGeom>
          <a:solidFill>
            <a:srgbClr val="0019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wandsüberwa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219320"/>
            <a:ext cx="182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ll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Proj.-Plan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51880" y="1195560"/>
            <a:ext cx="4941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</a:rPr>
              <a:t>Interne, externe Ressourcen (PT), Kosten (DM),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86040" y="1905120"/>
            <a:ext cx="2844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eíts erbra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 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(PT, DM, 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20440" y="1905120"/>
            <a:ext cx="1744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icht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au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  <a:ea typeface="Times New Roman"/>
              </a:rPr>
              <a:t>(PT, DM, 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38080" y="3657600"/>
            <a:ext cx="7925040" cy="657000"/>
            <a:chOff x="838080" y="3657600"/>
            <a:chExt cx="7925040" cy="657000"/>
          </a:xfrm>
        </p:grpSpPr>
        <p:sp>
          <p:nvSpPr>
            <p:cNvPr id="420" name=""/>
            <p:cNvSpPr/>
            <p:nvPr/>
          </p:nvSpPr>
          <p:spPr>
            <a:xfrm>
              <a:off x="838080" y="3657600"/>
              <a:ext cx="609840" cy="6094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3733920"/>
              <a:ext cx="716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Gesamtaufwand ist kleiner oder gleich dem geplanten Gesamtaufw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38080" y="4343400"/>
            <a:ext cx="8305920" cy="609480"/>
            <a:chOff x="838080" y="4343400"/>
            <a:chExt cx="8305920" cy="609480"/>
          </a:xfrm>
        </p:grpSpPr>
        <p:sp>
          <p:nvSpPr>
            <p:cNvPr id="423" name=""/>
            <p:cNvSpPr/>
            <p:nvPr/>
          </p:nvSpPr>
          <p:spPr>
            <a:xfrm>
              <a:off x="838080" y="43434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00200" y="4371840"/>
              <a:ext cx="754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Gesamtaufwand ist größer als der geplante Aufwand, aber innerhalb einer definierten Grenze </a:t>
              </a:r>
              <a:r>
                <a:rPr b="1" i="1" lang="de-DE" sz="1400" spc="-1" strike="noStrike">
                  <a:solidFill>
                    <a:srgbClr val="0019d1"/>
                  </a:solidFill>
                  <a:latin typeface="Arial"/>
                  <a:ea typeface="Times New Roman"/>
                </a:rPr>
                <a:t>(relativ x% oder absolut y PT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4920" y="1143000"/>
            <a:ext cx="838188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9051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04920" y="3184560"/>
            <a:ext cx="8381880" cy="398880"/>
            <a:chOff x="304920" y="3184560"/>
            <a:chExt cx="8381880" cy="398880"/>
          </a:xfrm>
        </p:grpSpPr>
        <p:sp>
          <p:nvSpPr>
            <p:cNvPr id="429" name=""/>
            <p:cNvSpPr/>
            <p:nvPr/>
          </p:nvSpPr>
          <p:spPr>
            <a:xfrm>
              <a:off x="304920" y="3200400"/>
              <a:ext cx="8381880" cy="380880"/>
            </a:xfrm>
            <a:prstGeom prst="rect">
              <a:avLst/>
            </a:prstGeom>
            <a:solidFill>
              <a:srgbClr val="001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9000" y="31845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ufwandsfl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32004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40080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1981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19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7712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) +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78920" y="233856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ichtl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am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2448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838080" y="5029200"/>
            <a:ext cx="8305920" cy="609480"/>
            <a:chOff x="838080" y="5029200"/>
            <a:chExt cx="8305920" cy="609480"/>
          </a:xfrm>
        </p:grpSpPr>
        <p:sp>
          <p:nvSpPr>
            <p:cNvPr id="438" name=""/>
            <p:cNvSpPr/>
            <p:nvPr/>
          </p:nvSpPr>
          <p:spPr>
            <a:xfrm>
              <a:off x="838080" y="5029200"/>
              <a:ext cx="609840" cy="609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00200" y="5057640"/>
              <a:ext cx="754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voraussichtliche Gesamtaufwand ist größer als der geplante Aufwand, und ausserhalb einer definierten Grenze </a:t>
              </a:r>
              <a:r>
                <a:rPr b="1" i="1" lang="de-DE" sz="1400" spc="-1" strike="noStrike">
                  <a:solidFill>
                    <a:srgbClr val="0019d1"/>
                  </a:solidFill>
                  <a:latin typeface="Arial"/>
                  <a:ea typeface="Times New Roman"/>
                </a:rPr>
                <a:t>(relativ x% oder absolut y PT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04920" y="1143000"/>
            <a:ext cx="1904760" cy="1905120"/>
          </a:xfrm>
          <a:prstGeom prst="rect">
            <a:avLst/>
          </a:prstGeom>
          <a:solidFill>
            <a:srgbClr val="0019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ualitätsüberwa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1219320"/>
            <a:ext cx="182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ll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Proj.-Plan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55120" y="1195560"/>
            <a:ext cx="593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</a:rPr>
              <a:t>(des jeweiligen Teilziels bzw. der jeweiligen Arbeitspake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838080" y="3657600"/>
            <a:ext cx="7925040" cy="657000"/>
            <a:chOff x="838080" y="3657600"/>
            <a:chExt cx="7925040" cy="657000"/>
          </a:xfrm>
        </p:grpSpPr>
        <p:sp>
          <p:nvSpPr>
            <p:cNvPr id="447" name=""/>
            <p:cNvSpPr/>
            <p:nvPr/>
          </p:nvSpPr>
          <p:spPr>
            <a:xfrm>
              <a:off x="838080" y="3657600"/>
              <a:ext cx="609840" cy="6094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3733920"/>
              <a:ext cx="716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Ergebnisform wird (voraussichtlich) mit allen definierten / erwarteten Eigenschaften geliefe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838080" y="4343400"/>
            <a:ext cx="7750440" cy="609480"/>
            <a:chOff x="838080" y="4343400"/>
            <a:chExt cx="7750440" cy="609480"/>
          </a:xfrm>
        </p:grpSpPr>
        <p:sp>
          <p:nvSpPr>
            <p:cNvPr id="450" name=""/>
            <p:cNvSpPr/>
            <p:nvPr/>
          </p:nvSpPr>
          <p:spPr>
            <a:xfrm>
              <a:off x="838080" y="43434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00200" y="4371840"/>
              <a:ext cx="69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Ergebnisform als solche wird zwar geliefert, allerdings nicht mit allen definierten / erwarteten Eigenschaf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838080" y="5029200"/>
            <a:ext cx="7772400" cy="609480"/>
            <a:chOff x="838080" y="5029200"/>
            <a:chExt cx="7772400" cy="609480"/>
          </a:xfrm>
        </p:grpSpPr>
        <p:sp>
          <p:nvSpPr>
            <p:cNvPr id="453" name=""/>
            <p:cNvSpPr/>
            <p:nvPr/>
          </p:nvSpPr>
          <p:spPr>
            <a:xfrm>
              <a:off x="838080" y="5029200"/>
              <a:ext cx="609840" cy="609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60600" y="5057640"/>
              <a:ext cx="704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vereinbarte Ergebnisform als solche wird nicht geliefert / kann nicht geliefert we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04920" y="1143000"/>
            <a:ext cx="838188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19051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4920" y="3184560"/>
            <a:ext cx="8381880" cy="398880"/>
            <a:chOff x="304920" y="3184560"/>
            <a:chExt cx="8381880" cy="398880"/>
          </a:xfrm>
        </p:grpSpPr>
        <p:sp>
          <p:nvSpPr>
            <p:cNvPr id="458" name=""/>
            <p:cNvSpPr/>
            <p:nvPr/>
          </p:nvSpPr>
          <p:spPr>
            <a:xfrm>
              <a:off x="304920" y="3200400"/>
              <a:ext cx="8381880" cy="380880"/>
            </a:xfrm>
            <a:prstGeom prst="rect">
              <a:avLst/>
            </a:prstGeom>
            <a:solidFill>
              <a:srgbClr val="001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05320" y="318456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alitätsfla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32004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377440" y="1986120"/>
            <a:ext cx="593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flag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(ggf.  mit Komment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19d1"/>
                </a:solidFill>
                <a:latin typeface="Arial"/>
              </a:rPr>
              <a:t>(des jeweiligen Teilziels bzw. der jeweiligen Arbeitspake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erfolgsverfolg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143000"/>
            <a:ext cx="1904760" cy="19051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" y="1219320"/>
            <a:ext cx="182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ll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Proj.-Plan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41800" y="119556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artete Nutzengröß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-W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mäß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38080" y="3962520"/>
            <a:ext cx="7925040" cy="609480"/>
            <a:chOff x="838080" y="3962520"/>
            <a:chExt cx="7925040" cy="609480"/>
          </a:xfrm>
        </p:grpSpPr>
        <p:sp>
          <p:nvSpPr>
            <p:cNvPr id="468" name=""/>
            <p:cNvSpPr/>
            <p:nvPr/>
          </p:nvSpPr>
          <p:spPr>
            <a:xfrm>
              <a:off x="838080" y="3962520"/>
              <a:ext cx="609840" cy="6094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00200" y="4159080"/>
              <a:ext cx="71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erwartete Nutzen wird sicher erreicht und/oder übertroff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838080" y="4648320"/>
            <a:ext cx="8153640" cy="609480"/>
            <a:chOff x="838080" y="4648320"/>
            <a:chExt cx="8153640" cy="609480"/>
          </a:xfrm>
        </p:grpSpPr>
        <p:sp>
          <p:nvSpPr>
            <p:cNvPr id="471" name=""/>
            <p:cNvSpPr/>
            <p:nvPr/>
          </p:nvSpPr>
          <p:spPr>
            <a:xfrm>
              <a:off x="838080" y="4648320"/>
              <a:ext cx="609840" cy="609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4676760"/>
              <a:ext cx="739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erwartete Nutzen wird nicht erreicht; die Abweichung liegt allerdings in einem mit dem Auftraggeber vereinbarten Toleranzbereic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838080" y="5334120"/>
            <a:ext cx="8077320" cy="609480"/>
            <a:chOff x="838080" y="5334120"/>
            <a:chExt cx="8077320" cy="609480"/>
          </a:xfrm>
        </p:grpSpPr>
        <p:sp>
          <p:nvSpPr>
            <p:cNvPr id="474" name=""/>
            <p:cNvSpPr/>
            <p:nvPr/>
          </p:nvSpPr>
          <p:spPr>
            <a:xfrm>
              <a:off x="838080" y="5334120"/>
              <a:ext cx="609840" cy="609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60600" y="5362560"/>
              <a:ext cx="735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r erwartete Nutzen wird nicht erreicht und die Abweichung liegt außerhalb eines mit dem Auftraggeber vereinbarten Toleranzbereic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4920" y="1143000"/>
            <a:ext cx="838188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19051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3489480"/>
            <a:ext cx="8381880" cy="398880"/>
            <a:chOff x="304920" y="3489480"/>
            <a:chExt cx="8381880" cy="398880"/>
          </a:xfrm>
        </p:grpSpPr>
        <p:sp>
          <p:nvSpPr>
            <p:cNvPr id="479" name=""/>
            <p:cNvSpPr/>
            <p:nvPr/>
          </p:nvSpPr>
          <p:spPr>
            <a:xfrm>
              <a:off x="304920" y="3505320"/>
              <a:ext cx="8381880" cy="3808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34894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rfolgsfla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9680" y="350532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886040" y="1905120"/>
            <a:ext cx="2146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eí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reich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800" y="1905120"/>
            <a:ext cx="2036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icht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ch zu erziel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r Nu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1981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7712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) +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78920" y="233856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ichtl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amtnu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3520" y="3048120"/>
            <a:ext cx="77724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990720"/>
            <a:ext cx="7772400" cy="1981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im Projektmanag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120" y="914400"/>
            <a:ext cx="75229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Auftraggeber </a:t>
            </a:r>
            <a:r>
              <a:rPr b="0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 (Sponsor / Business Ow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Lenkungskreis </a:t>
            </a:r>
            <a:r>
              <a:rPr b="0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(Stearing Commit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Lenkungsausschuss </a:t>
            </a:r>
            <a:r>
              <a:rPr b="0" lang="de-DE" sz="2400" spc="-1" strike="noStrike">
                <a:solidFill>
                  <a:srgbClr val="0019d1"/>
                </a:solidFill>
                <a:latin typeface="Arial"/>
                <a:ea typeface="Times New Roman"/>
              </a:rPr>
              <a:t>(Stearing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leit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Project Lead / Team of Pe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gruppenmitgl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Project Team Me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ilzielverantwort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beitspaketverantwort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an Arbeitspake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Coac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1): Auftragge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ons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1143000"/>
            <a:ext cx="8077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traggeber / Sponsor ist i. a. verantwortlich für: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 die Existenz des Projektes („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rum wird das Projekt überhaupt gemacht?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 die strategische Einbettung des Projektes in das entsprechend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Unternehmen und in die bereits existierende Projektland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 die Bereitstellung des benötigten Projektbudg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r Auftraggeber ist wie ein „Kunde“ eines Dienstleistungsunternehmens zu sehen mit allen Recht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z. B. zum Abbruch des Projektes)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 Pflicht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z. B. finanzielle, organisatorische, personelle Regelungen bei vorzeitigem Projektabbruch,...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ines „vertraglichen Kunden-Lieferantenverhältnisses“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entsprechende „Vertragsbasis“ bilden 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Projektskizz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r Projektplan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r Risiko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36576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2): Lenkungskre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eering Commite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066680"/>
            <a:ext cx="84582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Zweck eines Lenkungskreises 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Unterstützung der Projektarbeit durch unternehmensplanerische, strategisch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Maßnahm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Koordinierung der verschiedenen (wichtigsten) Projekte untereinander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Förderung der Integration des Projektmanagements in di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Unternehmens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eines Lenkungskreises sind i.a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e initialisie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rojektideen freigeben, Projektaufträge erteilen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di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wesentliche Beiträge zur Erreichung der strategischen Ziele des Unternehmens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liefer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prüfen, ob einzelne geplante Projekte mit den strategischen Zielen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Einklang stehen, bzw. ob unternehmenspolitische und/o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betriebswirtschaftliche Gegebenheiten diesen Projekten entgegenst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täten für die Projekte und Vorhaben festleg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ewerten von Projekten; auch Abbruch/Stop von Projek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751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inition eines Projekte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nach DIN 6990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440" y="1905120"/>
            <a:ext cx="36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Einmaligkeit der Bed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240" y="25146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Zielvor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168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Definierte Abgrenzung</a:t>
            </a:r>
            <a:r>
              <a:rPr b="1" lang="de-DE" sz="16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gegenüber anderen Vorhaben</a:t>
            </a:r>
            <a:br>
              <a:rPr sz="1800"/>
            </a:b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(zeitlich, personell, sachlich, finanziel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4960" y="511956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Dynam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10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Unsicherheit </a:t>
            </a: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(zeitlich, finanzi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19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19d1"/>
                </a:solidFill>
                <a:latin typeface="Arial"/>
              </a:rPr>
              <a:t>(I. d. R.) </a:t>
            </a: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Beteiligung mehrerer Organisationseinh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880" y="1371600"/>
            <a:ext cx="64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 sind komplexe Vorhaben gekennzeichnet dur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2): Lenkungskre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eering Commite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1239840"/>
            <a:ext cx="822960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Weitere Aufgaben eines Lenkungskreises sind i. a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ordination von Führung - Organisation - Information sicherstell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udget/Ressourcen für (insbesondere umfangreichere) Projekte berei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en für Entscheidungen von Lenkungsausschüss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ei entsprechend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wichtigen Projekten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hinterf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sreichenden Wissensstand der wesentlichen Gremien bzw. Funktionsträg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Lenkungsausschüsse, Projektleiter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über Faktoren, die das jeweilige Projekt „vo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außen" beeinflussen sicherst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Kommunikation aller wesentlichen Gremien und Funktionsträger mit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Unternehmensleitung sicherst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e Qualifizierung für Projektmonitoring und Projektmanagement kontroll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en für die Teambesetzung hinterf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sammenarbeit und Konfliktbewältigung förder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3): Lenkungsausschu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eering Grou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1295280"/>
            <a:ext cx="85345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eines Lenkungsausschusses sind i. a.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ierung des jeweiligen Projektauftrages mit Projektziel(en) sowie nötig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und/oder gewünschten Rahmenbedin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bgleich der Projektziele mit übergeordneten Zi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sourcenbereitstellung aus den Fachberei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nennung eines Projektleiters, Vorschlag eines Business Owners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ei Bedarf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estlegung der grundsätzlichen Projekt-Organisation und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Entscheidungskompetenzen des Projektleiters gegenüber der Linienhierarc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 des gesamten Phasenprozesses von der Projektidee bis zu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„Entsorgung" einschließlich Zustimmung beim Übergang von einer Phase in di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näch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 über Konsequenzen bei wesentlichen Abweichungen von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ursprünglichen Pla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1): Lenkungsausschu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teering Grou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1066680"/>
            <a:ext cx="838224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Weitere Aufgaben eines Lenkungsausschusses sind i. a.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treten (und Entscheiden) der Interessen aller Bereiche, zum Beispiel zu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Notwendigkeit von Anforderungen oder der Wirtschaftlich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ordinieren der Führungsverantwortung für die Projektteammitglieder bis zu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Wiedereingliederung in die Linienhierarchi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alls notwend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stätigen oder Ändern der Besetzung der Projektgrupp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Abstimmung mit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m Projektleiter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des Projekt-Coaches und des Projektlei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cherstellen des Ausbildungsbedarfs bei den Projektbeteilig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4): Projektlei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066680"/>
            <a:ext cx="838224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Die zentrale Verantwortlichkeit eines Projektleiters ist 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 das ihm übertragene Projekt so zu leiten, dass di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Projektskizze, Projektplan und Risikoplan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efinierten Ziele unter Einhaltung der Kosten und Termine erreicht werd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r Projektleiter ist somit vergleichbar mit dem „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nehmer/Lieferant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zw. eines Repräsentanten des formalen Auftragnehmers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einer Kunden-Lieferantenbezieh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Die Aufgaben eines Projektleiters bestehen somi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 im wesentlichen in der Planung, Steuerung und Überwachung des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rojektablaufes und der Projektorganisation, dem Koordinieren und Informieren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em Führen und Anleiten der Projektmitarbeiter und dem Überprüfen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Wirtschaftlichkeit bei der Projekt-/Risikoplanung sowie der Projektdurchführ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26668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41911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4): Projektlei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1295280"/>
            <a:ext cx="838224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des Projektleiters in Bezug auf... </a:t>
            </a:r>
            <a:br>
              <a:rPr sz="2000"/>
            </a:b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... </a:t>
            </a:r>
            <a:r>
              <a:rPr b="1" i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organisation, Projektplanung und -steu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twirken beim Einrichten einer Projektorganis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anung und Steuerung des Projektes entsprechend den vereinbart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Rege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Gemeinsam mit den Teammitgliedern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arbeiten eines Planes für d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Mitarbeitereinsatz entsprechend dem Projektablauf und Festlegen vo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Aufwänden und Term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mittlung der Kosten für Projektplanung und -durchführung.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4): Projektlei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1295280"/>
            <a:ext cx="838224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des Projektleiters in Bezug auf... </a:t>
            </a:r>
            <a:br>
              <a:rPr sz="2000"/>
            </a:b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... </a:t>
            </a:r>
            <a:r>
              <a:rPr b="1" i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fachliche Verantwortung für die Aufgabenumsetz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antwortung für alle Aktivitäten von der Projektauftragsprüfung bis zu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Übergabe an die zuständigen Teams zur weiteren Betreu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antwortung für die Einhaltung aller geltenden Richtlinien und Norm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ablierung von Qualitätssicherungs-Prozessen im T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4): Projektlei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295280"/>
            <a:ext cx="838224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des Projektleiters in Bezug auf... </a:t>
            </a:r>
            <a:br>
              <a:rPr sz="2000"/>
            </a:b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... </a:t>
            </a:r>
            <a:r>
              <a:rPr b="1" i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Koordinierung und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ordination aller im Zuge der Projektabwicklung anfallenden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der Teammitglieder über alle das Projekt betreffende Umstände,   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s Lenkungsausschusses über alle Projektergebnisse, Projektverlauf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rohende Termin- und Kostenüberschreitungen oder sonstige Probleme, di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einer Entscheidung bedür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htzeitige Integration bzw. Beteiligung der vom Projektfortschritt betroffen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Unternehmensbereiche beziehungsweise Abteilungen und ihrer Mitarbei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(4): Projektlei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1295280"/>
            <a:ext cx="83822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Aufgaben des Projektleiters in Bezug auf... </a:t>
            </a:r>
            <a:br>
              <a:rPr sz="2000"/>
            </a:b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... </a:t>
            </a:r>
            <a:r>
              <a:rPr b="1" i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Führungsaufga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tspracherecht bei der Abwesenheitsplanung der Team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tragung von Aufgaben und Verantwortung unter Berücksichtig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individuellen Fähigkeiten der 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schläge für Aus- und Weiterbildung der Mitarbeiter, soweit sie der Erreichung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s Projektzieles förderlich s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tion der Mitarbeiter, Konfliktlösungen und ausgewogene Arbeitsvertei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 von Qualifikationsprofilen fü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mitarbeiter (in Abstimmung mit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n jeweiligen Mitarbeitern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 der jeweiligen Qualifikationsprofile am Projektende sow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wertung der Leistungen der Projektmitarbei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len und Verantwortlichkeit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1371600"/>
            <a:ext cx="815328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48880" y="144792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eaec5e"/>
                </a:solidFill>
                <a:uFillTx/>
                <a:latin typeface="Arial"/>
                <a:hlinkClick r:id="rId1"/>
              </a:rPr>
              <a:t>Verantwortlichkeits-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080" y="22096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31240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35812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9548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05720" y="19810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kommunik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62481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arakteristische Meetings und Worksho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080" y="920880"/>
            <a:ext cx="74239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initialisierungs-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äsentation Projektskizze (formale Projektinitialisi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rahmenplanungs-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feinplanungs-(Abstimmungs-)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präsentation und Projektauftragser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Erfolgsmessplanungs-Workshop</a:t>
            </a:r>
            <a:br>
              <a:rPr sz="2000"/>
            </a:br>
            <a:r>
              <a:rPr b="1" lang="de-DE" sz="2000" spc="-1" strike="noStrike">
                <a:solidFill>
                  <a:srgbClr val="0019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Kick Off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Jour Fi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Status-/Meilenstein-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Change Management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19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  <a:ea typeface="Times New Roman"/>
              </a:rPr>
              <a:t>Projektabschluss-Review</a:t>
            </a:r>
            <a:r>
              <a:rPr b="1" lang="de-DE" sz="2000" spc="-1" strike="noStrike">
                <a:solidFill>
                  <a:srgbClr val="0019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lgen der „Unsicherheit“ bei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11280" y="1165320"/>
            <a:ext cx="6141960" cy="4559040"/>
          </a:xfrm>
          <a:custGeom>
            <a:avLst/>
            <a:gdLst/>
            <a:ahLst/>
            <a:rect l="l" t="t" r="r" b="b"/>
            <a:pathLst>
              <a:path w="2976" h="2208">
                <a:moveTo>
                  <a:pt x="0" y="2208"/>
                </a:moveTo>
                <a:lnTo>
                  <a:pt x="2976" y="0"/>
                </a:lnTo>
                <a:lnTo>
                  <a:pt x="2976" y="1008"/>
                </a:lnTo>
                <a:lnTo>
                  <a:pt x="0" y="2208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12920" y="1066680"/>
            <a:ext cx="6340320" cy="475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1049760" y="1820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85960" y="5425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laufz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12920" y="4236840"/>
            <a:ext cx="6422040" cy="1585800"/>
            <a:chOff x="1312920" y="4236840"/>
            <a:chExt cx="6422040" cy="1585800"/>
          </a:xfrm>
        </p:grpSpPr>
        <p:sp>
          <p:nvSpPr>
            <p:cNvPr id="72" name=""/>
            <p:cNvSpPr/>
            <p:nvPr/>
          </p:nvSpPr>
          <p:spPr>
            <a:xfrm flipV="1">
              <a:off x="1312920" y="4236840"/>
              <a:ext cx="6340320" cy="158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81400" y="47322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kosten gemä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jekt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76800" y="4930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312920" y="2354400"/>
            <a:ext cx="6457320" cy="3468240"/>
            <a:chOff x="1312920" y="2354400"/>
            <a:chExt cx="6457320" cy="3468240"/>
          </a:xfrm>
        </p:grpSpPr>
        <p:sp>
          <p:nvSpPr>
            <p:cNvPr id="76" name=""/>
            <p:cNvSpPr/>
            <p:nvPr/>
          </p:nvSpPr>
          <p:spPr>
            <a:xfrm flipV="1">
              <a:off x="1312920" y="3246120"/>
              <a:ext cx="634032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82200" y="2354400"/>
              <a:ext cx="168804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Tatsächl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Projektkosten</a:t>
              </a:r>
              <a:br>
                <a:rPr sz="1400"/>
              </a:b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de-DE" sz="1000" spc="-1" strike="noStrike" u="sng">
                  <a:solidFill>
                    <a:srgbClr val="ff0000"/>
                  </a:solidFill>
                  <a:uFillTx/>
                  <a:latin typeface="Arial"/>
                </a:rPr>
                <a:t>mit</a:t>
              </a: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 Risiko-Manageme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62880" y="31478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312920" y="1165320"/>
            <a:ext cx="6340320" cy="4657680"/>
            <a:chOff x="1312920" y="1165320"/>
            <a:chExt cx="6340320" cy="4657680"/>
          </a:xfrm>
        </p:grpSpPr>
        <p:sp>
          <p:nvSpPr>
            <p:cNvPr id="80" name=""/>
            <p:cNvSpPr/>
            <p:nvPr/>
          </p:nvSpPr>
          <p:spPr>
            <a:xfrm flipV="1">
              <a:off x="1312920" y="1165320"/>
              <a:ext cx="6340320" cy="46576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31320" y="1165320"/>
              <a:ext cx="1800720" cy="1685880"/>
              <a:chOff x="4531320" y="1165320"/>
              <a:chExt cx="1800720" cy="1685880"/>
            </a:xfrm>
          </p:grpSpPr>
          <p:sp>
            <p:nvSpPr>
              <p:cNvPr id="82" name=""/>
              <p:cNvSpPr/>
              <p:nvPr/>
            </p:nvSpPr>
            <p:spPr>
              <a:xfrm>
                <a:off x="4531320" y="1165320"/>
                <a:ext cx="180072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0000"/>
                    </a:solidFill>
                    <a:latin typeface="Arial"/>
                  </a:rPr>
                  <a:t>Tatsächlic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0000"/>
                    </a:solidFill>
                    <a:latin typeface="Arial"/>
                  </a:rPr>
                  <a:t>Projektkosten</a:t>
                </a:r>
                <a:br>
                  <a:rPr sz="1400"/>
                </a:br>
                <a:r>
                  <a:rPr b="1" lang="de-DE" sz="10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de-DE" sz="10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ohne</a:t>
                </a:r>
                <a:r>
                  <a:rPr b="1" lang="de-DE" sz="1000" spc="-1" strike="noStrike">
                    <a:solidFill>
                      <a:srgbClr val="ff0000"/>
                    </a:solidFill>
                    <a:latin typeface="Arial"/>
                  </a:rPr>
                  <a:t> Risiko-Managemen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5176800" y="195912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413000" y="3841560"/>
            <a:ext cx="6240240" cy="1981080"/>
            <a:chOff x="1413000" y="3841560"/>
            <a:chExt cx="6240240" cy="1981080"/>
          </a:xfrm>
        </p:grpSpPr>
        <p:sp>
          <p:nvSpPr>
            <p:cNvPr id="85" name=""/>
            <p:cNvSpPr/>
            <p:nvPr/>
          </p:nvSpPr>
          <p:spPr>
            <a:xfrm flipV="1">
              <a:off x="1413000" y="3841560"/>
              <a:ext cx="624024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7760" y="4336920"/>
              <a:ext cx="18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sten fü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isiko-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9440" y="4633920"/>
              <a:ext cx="4953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kommunik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62481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unikations-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99640" y="14479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eaec5e"/>
                </a:solidFill>
                <a:uFillTx/>
                <a:latin typeface="Arial"/>
                <a:hlinkClick r:id="rId1"/>
              </a:rPr>
              <a:t>Kommunika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22096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8080" y="31240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35812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05720" y="19810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1371600"/>
            <a:ext cx="815328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34120" y="693720"/>
            <a:ext cx="2319120" cy="982800"/>
          </a:xfrm>
          <a:prstGeom prst="flowChartMultidocumen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euerungs-R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46680" y="1295280"/>
            <a:ext cx="1630440" cy="10242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kation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dokument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8920" y="1536840"/>
            <a:ext cx="1401840" cy="102384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s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81320" y="1751040"/>
            <a:ext cx="1405080" cy="102384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ssues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19520" y="2006640"/>
            <a:ext cx="1401840" cy="102384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siko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2262240"/>
            <a:ext cx="1403280" cy="102384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87560" y="2519280"/>
            <a:ext cx="1403280" cy="10242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sio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1316160"/>
            <a:ext cx="1904760" cy="1960560"/>
            <a:chOff x="914400" y="1316160"/>
            <a:chExt cx="1904760" cy="1960560"/>
          </a:xfrm>
        </p:grpSpPr>
        <p:sp>
          <p:nvSpPr>
            <p:cNvPr id="550" name=""/>
            <p:cNvSpPr/>
            <p:nvPr/>
          </p:nvSpPr>
          <p:spPr>
            <a:xfrm>
              <a:off x="914400" y="1316160"/>
              <a:ext cx="1691640" cy="1801800"/>
            </a:xfrm>
            <a:custGeom>
              <a:avLst/>
              <a:gdLst/>
              <a:ahLst/>
              <a:rect l="l" t="t" r="r" b="b"/>
              <a:pathLst>
                <a:path w="1654" h="2363">
                  <a:moveTo>
                    <a:pt x="0" y="247"/>
                  </a:moveTo>
                  <a:lnTo>
                    <a:pt x="1501" y="7"/>
                  </a:lnTo>
                  <a:lnTo>
                    <a:pt x="1544" y="0"/>
                  </a:lnTo>
                  <a:lnTo>
                    <a:pt x="1577" y="0"/>
                  </a:lnTo>
                  <a:lnTo>
                    <a:pt x="1610" y="7"/>
                  </a:lnTo>
                  <a:lnTo>
                    <a:pt x="1628" y="18"/>
                  </a:lnTo>
                  <a:lnTo>
                    <a:pt x="1641" y="28"/>
                  </a:lnTo>
                  <a:lnTo>
                    <a:pt x="1648" y="49"/>
                  </a:lnTo>
                  <a:lnTo>
                    <a:pt x="1652" y="67"/>
                  </a:lnTo>
                  <a:lnTo>
                    <a:pt x="1654" y="94"/>
                  </a:lnTo>
                  <a:lnTo>
                    <a:pt x="1652" y="188"/>
                  </a:lnTo>
                  <a:lnTo>
                    <a:pt x="1652" y="2055"/>
                  </a:lnTo>
                  <a:lnTo>
                    <a:pt x="0" y="236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00007f"/>
            </a:solid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81600" y="1417680"/>
              <a:ext cx="1537560" cy="1859040"/>
            </a:xfrm>
            <a:custGeom>
              <a:avLst/>
              <a:gdLst/>
              <a:ahLst/>
              <a:rect l="l" t="t" r="r" b="b"/>
              <a:pathLst>
                <a:path w="1504" h="2437">
                  <a:moveTo>
                    <a:pt x="0" y="319"/>
                  </a:moveTo>
                  <a:lnTo>
                    <a:pt x="0" y="2437"/>
                  </a:lnTo>
                  <a:lnTo>
                    <a:pt x="1403" y="2047"/>
                  </a:lnTo>
                  <a:lnTo>
                    <a:pt x="1430" y="2042"/>
                  </a:lnTo>
                  <a:lnTo>
                    <a:pt x="1469" y="2029"/>
                  </a:lnTo>
                  <a:lnTo>
                    <a:pt x="1489" y="2015"/>
                  </a:lnTo>
                  <a:lnTo>
                    <a:pt x="1498" y="2000"/>
                  </a:lnTo>
                  <a:lnTo>
                    <a:pt x="1503" y="1975"/>
                  </a:lnTo>
                  <a:lnTo>
                    <a:pt x="1503" y="1958"/>
                  </a:lnTo>
                  <a:lnTo>
                    <a:pt x="1503" y="1931"/>
                  </a:lnTo>
                  <a:lnTo>
                    <a:pt x="1503" y="1893"/>
                  </a:lnTo>
                  <a:lnTo>
                    <a:pt x="1503" y="95"/>
                  </a:lnTo>
                  <a:lnTo>
                    <a:pt x="1504" y="61"/>
                  </a:lnTo>
                  <a:lnTo>
                    <a:pt x="1496" y="33"/>
                  </a:lnTo>
                  <a:lnTo>
                    <a:pt x="1484" y="18"/>
                  </a:lnTo>
                  <a:lnTo>
                    <a:pt x="1469" y="7"/>
                  </a:lnTo>
                  <a:lnTo>
                    <a:pt x="1451" y="0"/>
                  </a:lnTo>
                  <a:lnTo>
                    <a:pt x="1427" y="0"/>
                  </a:lnTo>
                  <a:lnTo>
                    <a:pt x="1402" y="1"/>
                  </a:lnTo>
                  <a:lnTo>
                    <a:pt x="1380" y="5"/>
                  </a:lnTo>
                  <a:lnTo>
                    <a:pt x="1352" y="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3f7fff"/>
            </a:solid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041840" y="1494000"/>
              <a:ext cx="273960" cy="179280"/>
              <a:chOff x="1041840" y="1494000"/>
              <a:chExt cx="273960" cy="179280"/>
            </a:xfrm>
          </p:grpSpPr>
          <p:sp>
            <p:nvSpPr>
              <p:cNvPr id="553" name=""/>
              <p:cNvSpPr/>
              <p:nvPr/>
            </p:nvSpPr>
            <p:spPr>
              <a:xfrm>
                <a:off x="1045440" y="1506960"/>
                <a:ext cx="270360" cy="166320"/>
              </a:xfrm>
              <a:custGeom>
                <a:avLst/>
                <a:gdLst/>
                <a:ahLst/>
                <a:rect l="l" t="t" r="r" b="b"/>
                <a:pathLst>
                  <a:path w="264" h="218">
                    <a:moveTo>
                      <a:pt x="0" y="111"/>
                    </a:moveTo>
                    <a:lnTo>
                      <a:pt x="14" y="95"/>
                    </a:lnTo>
                    <a:lnTo>
                      <a:pt x="32" y="78"/>
                    </a:lnTo>
                    <a:lnTo>
                      <a:pt x="54" y="60"/>
                    </a:lnTo>
                    <a:lnTo>
                      <a:pt x="80" y="41"/>
                    </a:lnTo>
                    <a:lnTo>
                      <a:pt x="103" y="29"/>
                    </a:lnTo>
                    <a:lnTo>
                      <a:pt x="127" y="17"/>
                    </a:lnTo>
                    <a:lnTo>
                      <a:pt x="145" y="10"/>
                    </a:lnTo>
                    <a:lnTo>
                      <a:pt x="166" y="4"/>
                    </a:lnTo>
                    <a:lnTo>
                      <a:pt x="187" y="0"/>
                    </a:lnTo>
                    <a:lnTo>
                      <a:pt x="201" y="1"/>
                    </a:lnTo>
                    <a:lnTo>
                      <a:pt x="219" y="6"/>
                    </a:lnTo>
                    <a:lnTo>
                      <a:pt x="231" y="10"/>
                    </a:lnTo>
                    <a:lnTo>
                      <a:pt x="242" y="18"/>
                    </a:lnTo>
                    <a:lnTo>
                      <a:pt x="250" y="27"/>
                    </a:lnTo>
                    <a:lnTo>
                      <a:pt x="259" y="41"/>
                    </a:lnTo>
                    <a:lnTo>
                      <a:pt x="261" y="56"/>
                    </a:lnTo>
                    <a:lnTo>
                      <a:pt x="264" y="71"/>
                    </a:lnTo>
                    <a:lnTo>
                      <a:pt x="260" y="88"/>
                    </a:lnTo>
                    <a:lnTo>
                      <a:pt x="256" y="104"/>
                    </a:lnTo>
                    <a:lnTo>
                      <a:pt x="250" y="122"/>
                    </a:lnTo>
                    <a:lnTo>
                      <a:pt x="238" y="139"/>
                    </a:lnTo>
                    <a:lnTo>
                      <a:pt x="226" y="157"/>
                    </a:lnTo>
                    <a:lnTo>
                      <a:pt x="208" y="181"/>
                    </a:lnTo>
                    <a:lnTo>
                      <a:pt x="190" y="204"/>
                    </a:lnTo>
                    <a:lnTo>
                      <a:pt x="176" y="2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41840" y="1494000"/>
                <a:ext cx="270360" cy="167040"/>
              </a:xfrm>
              <a:custGeom>
                <a:avLst/>
                <a:gdLst/>
                <a:ahLst/>
                <a:rect l="l" t="t" r="r" b="b"/>
                <a:pathLst>
                  <a:path w="264" h="219">
                    <a:moveTo>
                      <a:pt x="0" y="111"/>
                    </a:moveTo>
                    <a:lnTo>
                      <a:pt x="14" y="97"/>
                    </a:lnTo>
                    <a:lnTo>
                      <a:pt x="32" y="79"/>
                    </a:lnTo>
                    <a:lnTo>
                      <a:pt x="54" y="60"/>
                    </a:lnTo>
                    <a:lnTo>
                      <a:pt x="81" y="42"/>
                    </a:lnTo>
                    <a:lnTo>
                      <a:pt x="103" y="28"/>
                    </a:lnTo>
                    <a:lnTo>
                      <a:pt x="127" y="18"/>
                    </a:lnTo>
                    <a:lnTo>
                      <a:pt x="145" y="9"/>
                    </a:lnTo>
                    <a:lnTo>
                      <a:pt x="166" y="3"/>
                    </a:lnTo>
                    <a:lnTo>
                      <a:pt x="186" y="0"/>
                    </a:lnTo>
                    <a:lnTo>
                      <a:pt x="203" y="0"/>
                    </a:lnTo>
                    <a:lnTo>
                      <a:pt x="219" y="4"/>
                    </a:lnTo>
                    <a:lnTo>
                      <a:pt x="232" y="11"/>
                    </a:lnTo>
                    <a:lnTo>
                      <a:pt x="240" y="18"/>
                    </a:lnTo>
                    <a:lnTo>
                      <a:pt x="250" y="25"/>
                    </a:lnTo>
                    <a:lnTo>
                      <a:pt x="258" y="42"/>
                    </a:lnTo>
                    <a:lnTo>
                      <a:pt x="263" y="56"/>
                    </a:lnTo>
                    <a:lnTo>
                      <a:pt x="264" y="72"/>
                    </a:lnTo>
                    <a:lnTo>
                      <a:pt x="261" y="87"/>
                    </a:lnTo>
                    <a:lnTo>
                      <a:pt x="256" y="107"/>
                    </a:lnTo>
                    <a:lnTo>
                      <a:pt x="249" y="121"/>
                    </a:lnTo>
                    <a:lnTo>
                      <a:pt x="237" y="139"/>
                    </a:lnTo>
                    <a:lnTo>
                      <a:pt x="226" y="157"/>
                    </a:lnTo>
                    <a:lnTo>
                      <a:pt x="208" y="179"/>
                    </a:lnTo>
                    <a:lnTo>
                      <a:pt x="190" y="206"/>
                    </a:lnTo>
                    <a:lnTo>
                      <a:pt x="175" y="21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0c0c0"/>
              </a:solidFill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914400" y="1504800"/>
              <a:ext cx="367200" cy="1770120"/>
            </a:xfrm>
            <a:custGeom>
              <a:avLst/>
              <a:gdLst/>
              <a:ahLst/>
              <a:rect l="l" t="t" r="r" b="b"/>
              <a:pathLst>
                <a:path w="358" h="2321">
                  <a:moveTo>
                    <a:pt x="0" y="0"/>
                  </a:moveTo>
                  <a:lnTo>
                    <a:pt x="0" y="2115"/>
                  </a:lnTo>
                  <a:lnTo>
                    <a:pt x="358" y="2321"/>
                  </a:lnTo>
                  <a:lnTo>
                    <a:pt x="358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9f"/>
            </a:solid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26000" y="1770120"/>
              <a:ext cx="64440" cy="52200"/>
            </a:xfrm>
            <a:prstGeom prst="ellipse">
              <a:avLst/>
            </a:prstGeom>
            <a:solidFill>
              <a:srgbClr val="c0c0c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31400" y="2857680"/>
              <a:ext cx="63000" cy="48960"/>
            </a:xfrm>
            <a:prstGeom prst="ellipse">
              <a:avLst/>
            </a:prstGeom>
            <a:solidFill>
              <a:srgbClr val="c0c0c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1784520"/>
            <a:ext cx="13716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jek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nagemen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83320" y="3897360"/>
            <a:ext cx="1708200" cy="11509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ziel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32200" y="4281480"/>
            <a:ext cx="1710000" cy="11509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ziel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27480" y="4521240"/>
            <a:ext cx="1708200" cy="11509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zi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82880" y="4808520"/>
            <a:ext cx="1710000" cy="11509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zi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46600" y="5048280"/>
            <a:ext cx="1330200" cy="673200"/>
          </a:xfrm>
          <a:prstGeom prst="flowChartMultidocumen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eilzeil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914400" y="4245120"/>
          <a:ext cx="178596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245120"/>
                    <a:ext cx="17859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1474920" y="4656240"/>
            <a:ext cx="103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jek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49640" y="5097600"/>
            <a:ext cx="1709640" cy="11509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zi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40080" y="5384880"/>
            <a:ext cx="1330200" cy="750960"/>
          </a:xfrm>
          <a:prstGeom prst="flowChartMultidocumen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eilzeil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762120"/>
            <a:ext cx="8682480" cy="5638680"/>
            <a:chOff x="228600" y="762120"/>
            <a:chExt cx="8682480" cy="5638680"/>
          </a:xfrm>
        </p:grpSpPr>
        <p:sp>
          <p:nvSpPr>
            <p:cNvPr id="89" name=""/>
            <p:cNvSpPr/>
            <p:nvPr/>
          </p:nvSpPr>
          <p:spPr>
            <a:xfrm>
              <a:off x="3352680" y="1066680"/>
              <a:ext cx="129564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2680" y="1371600"/>
              <a:ext cx="129564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1905120"/>
              <a:ext cx="1295640" cy="304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209680"/>
              <a:ext cx="1295640" cy="152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905120"/>
              <a:ext cx="1295640" cy="304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480" y="2209680"/>
              <a:ext cx="1295640" cy="152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280" y="1905120"/>
              <a:ext cx="1295640" cy="304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7280" y="2209680"/>
              <a:ext cx="1295640" cy="152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2971800"/>
              <a:ext cx="129528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3276720"/>
              <a:ext cx="129528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2971800"/>
              <a:ext cx="129528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3276720"/>
              <a:ext cx="129528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365760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396252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426708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57200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4876920"/>
              <a:ext cx="990360" cy="304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5181480"/>
              <a:ext cx="990360" cy="152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594360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624852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365760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96252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26708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457200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5410080"/>
              <a:ext cx="99036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5715000"/>
              <a:ext cx="99036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14520" y="109692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(Gesamt-)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3400" y="1905120"/>
              <a:ext cx="124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(Teil-)Projekt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6520" y="1905120"/>
              <a:ext cx="124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(Teil-)Projekt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8720" y="190512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(Teil-)Projekt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080" y="2971800"/>
              <a:ext cx="9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eilziel 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4280" y="2971800"/>
              <a:ext cx="9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eilziel x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71600" y="176832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2520" y="2971800"/>
              <a:ext cx="129528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3276720"/>
              <a:ext cx="129528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657600"/>
              <a:ext cx="99072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67080" y="3962520"/>
              <a:ext cx="99072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7080" y="4267080"/>
              <a:ext cx="99072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4572000"/>
              <a:ext cx="99072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4876920"/>
              <a:ext cx="990720" cy="304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5181480"/>
              <a:ext cx="990720" cy="152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5943600"/>
              <a:ext cx="990720" cy="304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6248520"/>
              <a:ext cx="990720" cy="152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58720" y="297180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eilziel x.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11120" y="460224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920" y="518148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4840" y="518148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8880" y="3622680"/>
              <a:ext cx="94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rbeitspa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.n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4222800"/>
              <a:ext cx="94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rbeitspa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.n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4832280"/>
              <a:ext cx="94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rbeitspa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.n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8880" y="5899320"/>
              <a:ext cx="94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rbeitspa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.n.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16765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092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1523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2920" y="178272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266688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4290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380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380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5562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520" y="34290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2520" y="3809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252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5029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62520" y="6095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1840" y="274320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1600" y="914400"/>
              <a:ext cx="159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(Gesamt-)Projek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verantwortlichke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1600" y="1844640"/>
              <a:ext cx="156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(Teil-)Projek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verantwortlichke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81360" y="2895480"/>
              <a:ext cx="156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Teilziel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verantwortlichke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1600" y="3825720"/>
              <a:ext cx="156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Arbeitspake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19d1"/>
                  </a:solidFill>
                  <a:latin typeface="Arial"/>
                </a:rPr>
                <a:t>verantwortlichke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762120"/>
              <a:ext cx="0" cy="5638680"/>
            </a:xfrm>
            <a:prstGeom prst="line">
              <a:avLst/>
            </a:prstGeom>
            <a:ln w="25560">
              <a:solidFill>
                <a:srgbClr val="0019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52440" y="436680"/>
            <a:ext cx="873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rukturieru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zesse des Projektmanagem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4720" y="1447920"/>
            <a:ext cx="736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Projektinitialisierung / -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Projektplanung </a:t>
            </a: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(Rahmenplanung, Feinplanung, Risikoplanung)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Projekt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Projektabschl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Projekterfolgsme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5410080"/>
            <a:ext cx="838080" cy="53352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han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486400"/>
            <a:ext cx="838440" cy="53352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han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9960" y="5562720"/>
            <a:ext cx="914400" cy="53316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han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480" y="304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zess-Modell</a:t>
            </a:r>
            <a:br>
              <a:rPr sz="3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t Dokument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1219320"/>
            <a:ext cx="3048120" cy="363240"/>
          </a:xfrm>
          <a:prstGeom prst="rect">
            <a:avLst/>
          </a:prstGeom>
          <a:solidFill>
            <a:srgbClr val="0000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jekt-Defini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108320"/>
            <a:ext cx="457200" cy="15876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5867280"/>
            <a:ext cx="3048120" cy="303480"/>
          </a:xfrm>
          <a:prstGeom prst="rect">
            <a:avLst/>
          </a:prstGeom>
          <a:solidFill>
            <a:srgbClr val="0000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jektabschluß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419720"/>
            <a:ext cx="1295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hange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2057400"/>
            <a:ext cx="457200" cy="15876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1" idx="2"/>
            <a:endCxn id="185" idx="0"/>
          </p:cNvCxnSpPr>
          <p:nvPr/>
        </p:nvCxnSpPr>
        <p:spPr>
          <a:xfrm>
            <a:off x="4266720" y="158220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2"/>
            <a:endCxn id="188" idx="0"/>
          </p:cNvCxnSpPr>
          <p:nvPr/>
        </p:nvCxnSpPr>
        <p:spPr>
          <a:xfrm>
            <a:off x="4266720" y="221616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8" idx="2"/>
            <a:endCxn id="182" idx="0"/>
          </p:cNvCxnSpPr>
          <p:nvPr/>
        </p:nvCxnSpPr>
        <p:spPr>
          <a:xfrm>
            <a:off x="4266720" y="3394080"/>
            <a:ext cx="108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2" idx="2"/>
            <a:endCxn id="191" idx="0"/>
          </p:cNvCxnSpPr>
          <p:nvPr/>
        </p:nvCxnSpPr>
        <p:spPr>
          <a:xfrm>
            <a:off x="4266720" y="4267080"/>
            <a:ext cx="10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91" idx="2"/>
            <a:endCxn id="183" idx="0"/>
          </p:cNvCxnSpPr>
          <p:nvPr/>
        </p:nvCxnSpPr>
        <p:spPr>
          <a:xfrm>
            <a:off x="4266720" y="5262480"/>
            <a:ext cx="10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5238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Neu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2096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93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447920"/>
            <a:ext cx="1219320" cy="2971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1152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19d1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048120"/>
            <a:ext cx="1219320" cy="13716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1152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19d1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743200"/>
            <a:ext cx="3048120" cy="650880"/>
          </a:xfrm>
          <a:prstGeom prst="rect">
            <a:avLst/>
          </a:prstGeom>
          <a:solidFill>
            <a:srgbClr val="0000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jekt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lanu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27892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ahmen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3094200"/>
            <a:ext cx="1600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ein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414680"/>
            <a:ext cx="3048120" cy="847800"/>
          </a:xfrm>
          <a:prstGeom prst="rect">
            <a:avLst/>
          </a:prstGeom>
          <a:solidFill>
            <a:srgbClr val="0000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jekt-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u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Zeit, Aufwand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Qualität, Risiko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792680"/>
            <a:ext cx="12193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Jour Fix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LA-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Qualitäts-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676520"/>
            <a:ext cx="1219320" cy="45720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-Skiz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22640"/>
            <a:ext cx="1219320" cy="45720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Lös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Konz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"/>
          </p:cNvPr>
          <p:cNvSpPr/>
          <p:nvPr/>
        </p:nvSpPr>
        <p:spPr>
          <a:xfrm>
            <a:off x="2743200" y="3456000"/>
            <a:ext cx="1219320" cy="30312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-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2743200" y="3809880"/>
            <a:ext cx="1219320" cy="30348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siko-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859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Scope abgesti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068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Projekt-Plan freigege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3"/>
          </p:cNvPr>
          <p:cNvSpPr/>
          <p:nvPr/>
        </p:nvSpPr>
        <p:spPr>
          <a:xfrm>
            <a:off x="4572000" y="3454560"/>
            <a:ext cx="1219320" cy="30132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antw.-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/>
          </p:cNvPr>
          <p:cNvSpPr/>
          <p:nvPr/>
        </p:nvSpPr>
        <p:spPr>
          <a:xfrm>
            <a:off x="5943600" y="3429000"/>
            <a:ext cx="1219320" cy="30168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k.-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6324480" y="3511440"/>
            <a:ext cx="609480" cy="303480"/>
          </a:xfrm>
          <a:prstGeom prst="flowChartDocument">
            <a:avLst/>
          </a:prstGeom>
          <a:solidFill>
            <a:srgbClr val="3399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Chan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6248520"/>
            <a:ext cx="1219320" cy="45720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bnahm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ormul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6400800"/>
            <a:ext cx="457200" cy="15876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83" idx="2"/>
          </p:cNvCxnSpPr>
          <p:nvPr/>
        </p:nvCxnSpPr>
        <p:spPr>
          <a:xfrm>
            <a:off x="4266720" y="6170760"/>
            <a:ext cx="252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449568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Projekt been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2222640"/>
            <a:ext cx="1143000" cy="457200"/>
          </a:xfrm>
          <a:prstGeom prst="flowChartDocument">
            <a:avLst/>
          </a:prstGeom>
          <a:solidFill>
            <a:srgbClr val="a2c1fe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of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914400"/>
            <a:ext cx="457200" cy="15876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>
            <a:off x="4266720" y="1066320"/>
            <a:ext cx="252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343400" y="6858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19d1"/>
                </a:solidFill>
                <a:latin typeface="Arial"/>
              </a:rPr>
              <a:t>Projekt Idee/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5"/>
          </p:cNvPr>
          <p:cNvSpPr/>
          <p:nvPr/>
        </p:nvSpPr>
        <p:spPr>
          <a:xfrm>
            <a:off x="7543800" y="762120"/>
            <a:ext cx="838080" cy="563868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ffen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nkt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094200"/>
            <a:ext cx="1524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76876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13971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2133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6"/>
          </p:cNvPr>
          <p:cNvSpPr/>
          <p:nvPr/>
        </p:nvSpPr>
        <p:spPr>
          <a:xfrm>
            <a:off x="2743200" y="5353200"/>
            <a:ext cx="1219320" cy="457200"/>
          </a:xfrm>
          <a:prstGeom prst="flowChartDocument">
            <a:avLst/>
          </a:prstGeom>
          <a:solidFill>
            <a:srgbClr val="a2c1fe">
              <a:alpha val="50000"/>
            </a:srgbClr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.-Steue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gs-Ü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565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4756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49593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51753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523880" y="5257440"/>
            <a:ext cx="6019920" cy="7632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1152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19d1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479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b wann beginnt ein Projekt?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92720" y="1219320"/>
            <a:ext cx="426708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200" y="4343400"/>
            <a:ext cx="853452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45000" y="2286000"/>
            <a:ext cx="3962520" cy="167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68480" y="2314440"/>
            <a:ext cx="1295640" cy="1676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970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020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25680" y="34290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54280" y="3581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2680" y="22860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4720" y="22827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82480" y="2514600"/>
            <a:ext cx="1825560" cy="1017360"/>
            <a:chOff x="582480" y="2514600"/>
            <a:chExt cx="1825560" cy="1017360"/>
          </a:xfrm>
        </p:grpSpPr>
        <p:grpSp>
          <p:nvGrpSpPr>
            <p:cNvPr id="247" name=""/>
            <p:cNvGrpSpPr/>
            <p:nvPr/>
          </p:nvGrpSpPr>
          <p:grpSpPr>
            <a:xfrm>
              <a:off x="1646280" y="2606400"/>
              <a:ext cx="761760" cy="878040"/>
              <a:chOff x="1646280" y="2606400"/>
              <a:chExt cx="761760" cy="8780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1935000" y="2606400"/>
                <a:ext cx="473040" cy="709920"/>
                <a:chOff x="1935000" y="2606400"/>
                <a:chExt cx="473040" cy="70992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2054160" y="2698560"/>
                  <a:ext cx="353880" cy="523800"/>
                  <a:chOff x="2054160" y="2698560"/>
                  <a:chExt cx="353880" cy="52380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054160" y="2698560"/>
                    <a:ext cx="353880" cy="523800"/>
                    <a:chOff x="2054160" y="2698560"/>
                    <a:chExt cx="353880" cy="523800"/>
                  </a:xfrm>
                </p:grpSpPr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2141640" y="2730240"/>
                      <a:ext cx="266400" cy="430200"/>
                      <a:chOff x="2141640" y="2730240"/>
                      <a:chExt cx="266400" cy="430200"/>
                    </a:xfrm>
                  </p:grpSpPr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2171520" y="2730240"/>
                        <a:ext cx="236520" cy="430200"/>
                        <a:chOff x="2171520" y="2730240"/>
                        <a:chExt cx="236520" cy="43020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2290680" y="2976480"/>
                          <a:ext cx="117360" cy="123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2201760" y="3006720"/>
                          <a:ext cx="147600" cy="153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2260440" y="2822400"/>
                          <a:ext cx="119160" cy="123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171520" y="2730240"/>
                          <a:ext cx="149400" cy="155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265120" y="2825640"/>
                          <a:ext cx="100080" cy="245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309">
                              <a:moveTo>
                                <a:pt x="128" y="307"/>
                              </a:moveTo>
                              <a:lnTo>
                                <a:pt x="75" y="309"/>
                              </a:lnTo>
                              <a:lnTo>
                                <a:pt x="0" y="0"/>
                              </a:lnTo>
                              <a:lnTo>
                                <a:pt x="80" y="24"/>
                              </a:lnTo>
                              <a:lnTo>
                                <a:pt x="82" y="176"/>
                              </a:lnTo>
                              <a:lnTo>
                                <a:pt x="128" y="3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141640" y="2852640"/>
                        <a:ext cx="207720" cy="217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141640" y="2976480"/>
                        <a:ext cx="149040" cy="1555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187360" y="2798640"/>
                        <a:ext cx="106560" cy="26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333">
                            <a:moveTo>
                              <a:pt x="121" y="56"/>
                            </a:moveTo>
                            <a:lnTo>
                              <a:pt x="106" y="127"/>
                            </a:lnTo>
                            <a:lnTo>
                              <a:pt x="133" y="288"/>
                            </a:lnTo>
                            <a:lnTo>
                              <a:pt x="80" y="333"/>
                            </a:lnTo>
                            <a:lnTo>
                              <a:pt x="0" y="140"/>
                            </a:lnTo>
                            <a:lnTo>
                              <a:pt x="64" y="0"/>
                            </a:lnTo>
                            <a:lnTo>
                              <a:pt x="121" y="5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141640" y="3100320"/>
                      <a:ext cx="118800" cy="122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054160" y="2698560"/>
                      <a:ext cx="147600" cy="155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178000" y="3076560"/>
                      <a:ext cx="79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69">
                          <a:moveTo>
                            <a:pt x="99" y="43"/>
                          </a:moveTo>
                          <a:lnTo>
                            <a:pt x="69" y="69"/>
                          </a:lnTo>
                          <a:lnTo>
                            <a:pt x="0" y="34"/>
                          </a:lnTo>
                          <a:lnTo>
                            <a:pt x="69" y="0"/>
                          </a:lnTo>
                          <a:lnTo>
                            <a:pt x="99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4" name=""/>
                  <p:cNvSpPr/>
                  <p:nvPr/>
                </p:nvSpPr>
                <p:spPr>
                  <a:xfrm>
                    <a:off x="2166840" y="2770200"/>
                    <a:ext cx="475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9">
                        <a:moveTo>
                          <a:pt x="30" y="0"/>
                        </a:moveTo>
                        <a:lnTo>
                          <a:pt x="59" y="2"/>
                        </a:lnTo>
                        <a:lnTo>
                          <a:pt x="47" y="109"/>
                        </a:lnTo>
                        <a:lnTo>
                          <a:pt x="0" y="8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935000" y="2606400"/>
                  <a:ext cx="325440" cy="648000"/>
                  <a:chOff x="1935000" y="2606400"/>
                  <a:chExt cx="325440" cy="6480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963800" y="2976480"/>
                    <a:ext cx="268200" cy="27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993680" y="2790720"/>
                    <a:ext cx="266760" cy="27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935000" y="2606400"/>
                    <a:ext cx="20808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54160" y="2730240"/>
                    <a:ext cx="117360" cy="12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995480" y="2709720"/>
                    <a:ext cx="1792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302">
                        <a:moveTo>
                          <a:pt x="161" y="12"/>
                        </a:moveTo>
                        <a:lnTo>
                          <a:pt x="158" y="48"/>
                        </a:lnTo>
                        <a:lnTo>
                          <a:pt x="212" y="116"/>
                        </a:lnTo>
                        <a:lnTo>
                          <a:pt x="226" y="123"/>
                        </a:lnTo>
                        <a:lnTo>
                          <a:pt x="147" y="302"/>
                        </a:lnTo>
                        <a:lnTo>
                          <a:pt x="0" y="0"/>
                        </a:lnTo>
                        <a:lnTo>
                          <a:pt x="161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79720" y="3028680"/>
                    <a:ext cx="117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1">
                        <a:moveTo>
                          <a:pt x="132" y="12"/>
                        </a:moveTo>
                        <a:lnTo>
                          <a:pt x="148" y="40"/>
                        </a:lnTo>
                        <a:lnTo>
                          <a:pt x="0" y="91"/>
                        </a:lnTo>
                        <a:lnTo>
                          <a:pt x="4" y="0"/>
                        </a:lnTo>
                        <a:lnTo>
                          <a:pt x="132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1935000" y="3162240"/>
                  <a:ext cx="149400" cy="154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30400" y="3149640"/>
                  <a:ext cx="79200" cy="82440"/>
                </a:xfrm>
                <a:custGeom>
                  <a:avLst/>
                  <a:gdLst/>
                  <a:ahLst/>
                  <a:rect l="l" t="t" r="r" b="b"/>
                  <a:pathLst>
                    <a:path w="102" h="106">
                      <a:moveTo>
                        <a:pt x="41" y="106"/>
                      </a:moveTo>
                      <a:lnTo>
                        <a:pt x="102" y="70"/>
                      </a:lnTo>
                      <a:lnTo>
                        <a:pt x="32" y="0"/>
                      </a:lnTo>
                      <a:lnTo>
                        <a:pt x="0" y="39"/>
                      </a:lnTo>
                      <a:lnTo>
                        <a:pt x="41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646280" y="3300120"/>
                <a:ext cx="177840" cy="1843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85960" y="3300120"/>
                <a:ext cx="149040" cy="1540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68400" y="3249360"/>
                <a:ext cx="149400" cy="1558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52480" y="3230280"/>
                <a:ext cx="287280" cy="203400"/>
              </a:xfrm>
              <a:custGeom>
                <a:avLst/>
                <a:gdLst/>
                <a:ahLst/>
                <a:rect l="l" t="t" r="r" b="b"/>
                <a:pathLst>
                  <a:path w="362" h="256">
                    <a:moveTo>
                      <a:pt x="337" y="74"/>
                    </a:moveTo>
                    <a:lnTo>
                      <a:pt x="304" y="91"/>
                    </a:lnTo>
                    <a:lnTo>
                      <a:pt x="207" y="192"/>
                    </a:lnTo>
                    <a:lnTo>
                      <a:pt x="183" y="236"/>
                    </a:lnTo>
                    <a:lnTo>
                      <a:pt x="76" y="236"/>
                    </a:lnTo>
                    <a:lnTo>
                      <a:pt x="53" y="256"/>
                    </a:lnTo>
                    <a:lnTo>
                      <a:pt x="0" y="180"/>
                    </a:lnTo>
                    <a:lnTo>
                      <a:pt x="245" y="0"/>
                    </a:lnTo>
                    <a:lnTo>
                      <a:pt x="362" y="41"/>
                    </a:lnTo>
                    <a:lnTo>
                      <a:pt x="337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82480" y="2612880"/>
              <a:ext cx="463680" cy="611280"/>
              <a:chOff x="582480" y="2612880"/>
              <a:chExt cx="463680" cy="6112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582480" y="2698560"/>
                <a:ext cx="255600" cy="371520"/>
                <a:chOff x="582480" y="2698560"/>
                <a:chExt cx="255600" cy="371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82480" y="2822400"/>
                  <a:ext cx="117360" cy="123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1560" y="2914560"/>
                  <a:ext cx="147600" cy="1555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30000" y="2698560"/>
                  <a:ext cx="208080" cy="2174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19200" y="2838240"/>
                  <a:ext cx="77760" cy="119160"/>
                </a:xfrm>
                <a:custGeom>
                  <a:avLst/>
                  <a:gdLst/>
                  <a:ahLst/>
                  <a:rect l="l" t="t" r="r" b="b"/>
                  <a:pathLst>
                    <a:path w="99" h="148">
                      <a:moveTo>
                        <a:pt x="57" y="0"/>
                      </a:moveTo>
                      <a:lnTo>
                        <a:pt x="0" y="29"/>
                      </a:lnTo>
                      <a:lnTo>
                        <a:pt x="2" y="119"/>
                      </a:lnTo>
                      <a:lnTo>
                        <a:pt x="21" y="148"/>
                      </a:lnTo>
                      <a:lnTo>
                        <a:pt x="99" y="11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0240" y="2612880"/>
                <a:ext cx="385920" cy="611280"/>
                <a:chOff x="660240" y="2612880"/>
                <a:chExt cx="385920" cy="6112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77960" y="2636640"/>
                  <a:ext cx="268200" cy="2793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0240" y="2822400"/>
                  <a:ext cx="149400" cy="1555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9040" y="2914560"/>
                  <a:ext cx="209520" cy="2174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7720" y="3006720"/>
                  <a:ext cx="209520" cy="2174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63560" y="2765160"/>
                  <a:ext cx="185760" cy="1890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11160" y="2612880"/>
                  <a:ext cx="119160" cy="1224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22240" y="2733480"/>
                  <a:ext cx="130320" cy="96840"/>
                </a:xfrm>
                <a:custGeom>
                  <a:avLst/>
                  <a:gdLst/>
                  <a:ahLst/>
                  <a:rect l="l" t="t" r="r" b="b"/>
                  <a:pathLst>
                    <a:path w="165" h="123">
                      <a:moveTo>
                        <a:pt x="0" y="34"/>
                      </a:moveTo>
                      <a:lnTo>
                        <a:pt x="21" y="92"/>
                      </a:lnTo>
                      <a:lnTo>
                        <a:pt x="165" y="123"/>
                      </a:lnTo>
                      <a:lnTo>
                        <a:pt x="165" y="46"/>
                      </a:lnTo>
                      <a:lnTo>
                        <a:pt x="1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01640" y="2890800"/>
                  <a:ext cx="149040" cy="190440"/>
                </a:xfrm>
                <a:custGeom>
                  <a:avLst/>
                  <a:gdLst/>
                  <a:ahLst/>
                  <a:rect l="l" t="t" r="r" b="b"/>
                  <a:pathLst>
                    <a:path w="187" h="239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48" y="109"/>
                      </a:lnTo>
                      <a:lnTo>
                        <a:pt x="55" y="225"/>
                      </a:lnTo>
                      <a:lnTo>
                        <a:pt x="83" y="239"/>
                      </a:lnTo>
                      <a:lnTo>
                        <a:pt x="180" y="165"/>
                      </a:lnTo>
                      <a:lnTo>
                        <a:pt x="187" y="24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906480" y="2679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103" h="121">
                    <a:moveTo>
                      <a:pt x="0" y="65"/>
                    </a:moveTo>
                    <a:lnTo>
                      <a:pt x="44" y="0"/>
                    </a:lnTo>
                    <a:lnTo>
                      <a:pt x="103" y="65"/>
                    </a:lnTo>
                    <a:lnTo>
                      <a:pt x="53" y="12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07840" y="2514600"/>
              <a:ext cx="1335240" cy="1017360"/>
              <a:chOff x="807840" y="2514600"/>
              <a:chExt cx="1335240" cy="10173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24000" y="2544480"/>
                <a:ext cx="325440" cy="341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90760" y="2514600"/>
                <a:ext cx="266400" cy="2775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27280" y="2790720"/>
                <a:ext cx="415800" cy="4334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55440" y="2976480"/>
                <a:ext cx="476280" cy="4935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09560" y="3038400"/>
                <a:ext cx="354240" cy="3697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8080" y="3068640"/>
                <a:ext cx="266760" cy="2775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7840" y="2852640"/>
                <a:ext cx="266760" cy="2779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27000" y="2606400"/>
                <a:ext cx="415800" cy="4320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82680" y="3100320"/>
                <a:ext cx="415800" cy="431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85960" y="2636640"/>
                <a:ext cx="326880" cy="3412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97040" y="2514600"/>
                <a:ext cx="296640" cy="3078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15840" y="2595600"/>
                <a:ext cx="1152720" cy="804600"/>
              </a:xfrm>
              <a:custGeom>
                <a:avLst/>
                <a:gdLst/>
                <a:ahLst/>
                <a:rect l="l" t="t" r="r" b="b"/>
                <a:pathLst>
                  <a:path w="1450" h="1013">
                    <a:moveTo>
                      <a:pt x="447" y="102"/>
                    </a:moveTo>
                    <a:lnTo>
                      <a:pt x="508" y="29"/>
                    </a:lnTo>
                    <a:lnTo>
                      <a:pt x="779" y="34"/>
                    </a:lnTo>
                    <a:lnTo>
                      <a:pt x="970" y="0"/>
                    </a:lnTo>
                    <a:lnTo>
                      <a:pt x="1212" y="121"/>
                    </a:lnTo>
                    <a:lnTo>
                      <a:pt x="1334" y="87"/>
                    </a:lnTo>
                    <a:lnTo>
                      <a:pt x="1399" y="102"/>
                    </a:lnTo>
                    <a:lnTo>
                      <a:pt x="1413" y="402"/>
                    </a:lnTo>
                    <a:lnTo>
                      <a:pt x="1450" y="450"/>
                    </a:lnTo>
                    <a:lnTo>
                      <a:pt x="1339" y="683"/>
                    </a:lnTo>
                    <a:lnTo>
                      <a:pt x="1217" y="524"/>
                    </a:lnTo>
                    <a:lnTo>
                      <a:pt x="1184" y="606"/>
                    </a:lnTo>
                    <a:lnTo>
                      <a:pt x="1013" y="925"/>
                    </a:lnTo>
                    <a:lnTo>
                      <a:pt x="438" y="1013"/>
                    </a:lnTo>
                    <a:lnTo>
                      <a:pt x="140" y="950"/>
                    </a:lnTo>
                    <a:lnTo>
                      <a:pt x="46" y="752"/>
                    </a:lnTo>
                    <a:lnTo>
                      <a:pt x="46" y="548"/>
                    </a:lnTo>
                    <a:lnTo>
                      <a:pt x="0" y="378"/>
                    </a:lnTo>
                    <a:lnTo>
                      <a:pt x="447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888840" y="2666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00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40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400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200" y="1219320"/>
            <a:ext cx="3886200" cy="2971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0640" y="12193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akteristische Pha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VO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einem Pro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2720" y="1219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liche Begrenzung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ojek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200" y="52578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initi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11280" y="52578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92720" y="4648320"/>
            <a:ext cx="42670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92720" y="5257800"/>
            <a:ext cx="4267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92720" y="5867280"/>
            <a:ext cx="4267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0280" y="170172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Projek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ab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9680" y="16765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Projek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9d1"/>
                </a:solidFill>
                <a:latin typeface="Arial"/>
              </a:rPr>
              <a:t>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52480" y="36910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54960" y="36878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447920"/>
            <a:ext cx="7086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514600"/>
            <a:ext cx="2209680" cy="2590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an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2514600"/>
            <a:ext cx="2209680" cy="2590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w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2514600"/>
            <a:ext cx="2210040" cy="2590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12408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 von SOLL- und IST-Werten zur Feststellung möglicher Differenzen in den Steuerungs-grö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05740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057400"/>
            <a:ext cx="83844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2057400"/>
            <a:ext cx="83844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3124080"/>
            <a:ext cx="1904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 und Durchführen von Maßnahmen als Reaktion auf eine Differenz zwischen SOLL- und IST-We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auptfunktionen der Steu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2440" y="436320"/>
            <a:ext cx="873432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ktsteu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6019560"/>
            <a:ext cx="7800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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euerungsstrate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066680"/>
            <a:ext cx="739116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1828800"/>
            <a:ext cx="304560" cy="30492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18000">
            <a:off x="-322560" y="192636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tandsgrö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6680" y="5638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960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62120" y="105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990720" y="1980720"/>
            <a:ext cx="7010280" cy="35053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1066680"/>
            <a:ext cx="0" cy="4572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1066680"/>
            <a:ext cx="0" cy="4572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1066680"/>
            <a:ext cx="0" cy="4572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0720" y="5318280"/>
            <a:ext cx="3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23080" y="5334120"/>
            <a:ext cx="3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50360" y="5334120"/>
            <a:ext cx="3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990720" y="5181120"/>
            <a:ext cx="144756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38160" y="1639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19d1"/>
                </a:solidFill>
                <a:latin typeface="Arial"/>
              </a:rPr>
              <a:t>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7720" y="1981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we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22200" y="5334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IST-We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334120"/>
            <a:ext cx="304560" cy="30456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071000" y="3352680"/>
            <a:ext cx="3043800" cy="1828800"/>
            <a:chOff x="1071000" y="3352680"/>
            <a:chExt cx="3043800" cy="1828800"/>
          </a:xfrm>
        </p:grpSpPr>
        <p:sp>
          <p:nvSpPr>
            <p:cNvPr id="355" name=""/>
            <p:cNvSpPr/>
            <p:nvPr/>
          </p:nvSpPr>
          <p:spPr>
            <a:xfrm flipV="1">
              <a:off x="2438280" y="3962520"/>
              <a:ext cx="1676520" cy="1218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71000" y="3352680"/>
              <a:ext cx="213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8000"/>
                  </a:solidFill>
                  <a:latin typeface="Arial"/>
                </a:rPr>
                <a:t>Verlaufsorienti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8000"/>
                  </a:solidFill>
                  <a:latin typeface="Arial"/>
                </a:rPr>
                <a:t>Steuerungsstrateg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388620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438280" y="1981080"/>
            <a:ext cx="5562720" cy="3200400"/>
            <a:chOff x="2438280" y="1981080"/>
            <a:chExt cx="5562720" cy="3200400"/>
          </a:xfrm>
        </p:grpSpPr>
        <p:sp>
          <p:nvSpPr>
            <p:cNvPr id="359" name=""/>
            <p:cNvSpPr/>
            <p:nvPr/>
          </p:nvSpPr>
          <p:spPr>
            <a:xfrm flipV="1">
              <a:off x="2438280" y="1981080"/>
              <a:ext cx="5562720" cy="320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62120" y="3962520"/>
              <a:ext cx="213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19d1"/>
                  </a:solidFill>
                  <a:latin typeface="Arial"/>
                </a:rPr>
                <a:t>Zielorienti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19d1"/>
                  </a:solidFill>
                  <a:latin typeface="Arial"/>
                </a:rPr>
                <a:t>Steuerungsstrateg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9200" y="380988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3T13:06:10Z</dcterms:created>
  <dc:creator>SAP AG</dc:creator>
  <dc:description/>
  <dc:language>en-US</dc:language>
  <cp:lastModifiedBy>Prof. Dr.-Ing. Schreuder</cp:lastModifiedBy>
  <dcterms:modified xsi:type="dcterms:W3CDTF">2001-10-06T13:27:06Z</dcterms:modified>
  <cp:revision>74</cp:revision>
  <dc:subject/>
  <dc:title>Kein Folientitel</dc:title>
</cp:coreProperties>
</file>