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85200" y="990720"/>
            <a:ext cx="8303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279f"/>
                </a:solidFill>
                <a:latin typeface="Arial"/>
              </a:rPr>
              <a:t>„</a:t>
            </a:r>
            <a:r>
              <a:rPr b="1" lang="de-DE" sz="3600" spc="-1" strike="noStrike">
                <a:solidFill>
                  <a:srgbClr val="00279f"/>
                </a:solidFill>
                <a:latin typeface="Arial"/>
              </a:rPr>
              <a:t>Qualität</a:t>
            </a:r>
            <a:r>
              <a:rPr b="1" lang="de-DE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st die Beschaffenheit ei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inheit bezüglich ihrer Eignung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bestehende Forderungen zu erfüll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ntscheidend ist dabei, die Qualität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forderungen eindeutig zu definiere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Erst dann kann die tatsächli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orhandene Qualität gemess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und beurteilt werden“ (DGQ 199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1200" y="1420920"/>
            <a:ext cx="7173720" cy="481464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7880" y="996840"/>
            <a:ext cx="7251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ÄTS-MANAGEMENT-SYSTEM NACH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IN EN ISO 9000 f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01520" y="1455840"/>
            <a:ext cx="631224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antwortung der L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men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ags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len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der Dokumente und 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 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ung und Rückverfolgbarkeit von 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von Qualitätsaufzei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 Qualitäts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34120" y="5640480"/>
            <a:ext cx="2755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N EN ISO 9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nur End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34120" y="4268880"/>
            <a:ext cx="267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N EN ISO 9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nur 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und Mo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4120" y="2058840"/>
            <a:ext cx="2679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N EN ISO 9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esign/Entwicklu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du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ontage 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Kundendie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0360" y="1378080"/>
            <a:ext cx="6769080" cy="4406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920" y="2233440"/>
            <a:ext cx="1327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Zertifizie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terneh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 der B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60680" y="589104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55960" y="589104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0200" y="589104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56560" y="581508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1727280" y="1245240"/>
            <a:ext cx="6654600" cy="4520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6348600" y="113760"/>
            <a:ext cx="3888360" cy="670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507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5499000"/>
            <a:ext cx="0" cy="27936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728800" y="4950000"/>
            <a:ext cx="1030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53280" y="6143760"/>
            <a:ext cx="226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m. Neuausgabe der N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4660920"/>
            <a:ext cx="0" cy="111744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98560" y="1395360"/>
            <a:ext cx="687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33520" y="5254560"/>
            <a:ext cx="103032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51560" y="5586480"/>
            <a:ext cx="48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36840" y="4648320"/>
            <a:ext cx="2869920" cy="0"/>
          </a:xfrm>
          <a:prstGeom prst="line">
            <a:avLst/>
          </a:prstGeom>
          <a:ln w="2556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5240" y="4443480"/>
            <a:ext cx="588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191" name=""/>
            <p:cNvSpPr/>
            <p:nvPr/>
          </p:nvSpPr>
          <p:spPr>
            <a:xfrm>
              <a:off x="897840" y="366840"/>
              <a:ext cx="7197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Bedeutung kommt heute und mor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iner Zertifizierung nach DIN EN ISO 9000 ff. 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195" name=""/>
            <p:cNvSpPr/>
            <p:nvPr/>
          </p:nvSpPr>
          <p:spPr>
            <a:xfrm>
              <a:off x="897840" y="366840"/>
              <a:ext cx="7197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Bedeutung kommt heute und mor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iner Zertifizierung nach DIN EN ISO 9000 ff. 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7" name=""/>
          <p:cNvGraphicFramePr/>
          <p:nvPr/>
        </p:nvGraphicFramePr>
        <p:xfrm>
          <a:off x="210960" y="2049480"/>
          <a:ext cx="8593200" cy="33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60" y="2049480"/>
                    <a:ext cx="8593200" cy="33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01" name=""/>
            <p:cNvSpPr/>
            <p:nvPr/>
          </p:nvSpPr>
          <p:spPr>
            <a:xfrm>
              <a:off x="897840" y="366840"/>
              <a:ext cx="7197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Bedeutung kommt heute und mor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iner Zertifizierung nach DIN EN ISO 9000 ff. 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3" name=""/>
          <p:cNvGraphicFramePr/>
          <p:nvPr/>
        </p:nvGraphicFramePr>
        <p:xfrm>
          <a:off x="-47520" y="1438200"/>
          <a:ext cx="9218520" cy="50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7520" y="1438200"/>
                    <a:ext cx="9218520" cy="50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546880" y="30322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49400" y="1577880"/>
            <a:ext cx="3921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rfüllung von Kundenford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Höhere Rechtssicherhei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Transparenz der Abläu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53960" y="3075120"/>
            <a:ext cx="717624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Wer ist für welche Aufgaben zuständi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Bei welchen Personen liegt die Verantwortung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Wer wirkt an einem Arbeitsablauf (Geschäftsprozeß) mit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Welche Abteilungen / Personen sprechen sich miteinander a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Nach welchen Verfahren wird im Betrieb gearbeite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Wer verwaltet die qualitätsbezogenen Dokument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50480" y="5845320"/>
            <a:ext cx="725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Basis für ein dauerhaftes TOTAL QUALITY MANAGEMENT (TQ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11" name=""/>
            <p:cNvSpPr/>
            <p:nvPr/>
          </p:nvSpPr>
          <p:spPr>
            <a:xfrm>
              <a:off x="897840" y="366840"/>
              <a:ext cx="71978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Bedeutung kommt heute und morg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iner Zertifizierung nach DIN EN ISO 9000 ff. zu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92280" y="3359160"/>
            <a:ext cx="2044440" cy="90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76320" y="3635280"/>
            <a:ext cx="1603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2280" y="2292480"/>
            <a:ext cx="2044440" cy="90144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2280" y="4425840"/>
            <a:ext cx="2044440" cy="90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92280" y="5492880"/>
            <a:ext cx="2044440" cy="90144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2280" y="1225440"/>
            <a:ext cx="2044440" cy="901800"/>
          </a:xfrm>
          <a:prstGeom prst="rect">
            <a:avLst/>
          </a:prstGeom>
          <a:solidFill>
            <a:srgbClr val="cecec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3680" y="1349280"/>
            <a:ext cx="1807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bereit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0200" y="1273320"/>
            <a:ext cx="40237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formation an die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definition und -plan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u. a. Rahmen des Projektes festle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00720" y="2568600"/>
            <a:ext cx="171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yse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33000" y="2416320"/>
            <a:ext cx="3983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T-Zustände analys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gleich mit Normen vo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1560" y="3406680"/>
            <a:ext cx="373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L-Zustände defin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L-Zustände dokument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QM-Handbuch, VA, A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98560" y="4549680"/>
            <a:ext cx="1606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führ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30480" y="4473720"/>
            <a:ext cx="595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OLL-Zustände ein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gf. Korrekturen vo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geführte Zustände überprüfen (intern auditier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2960" y="5616720"/>
            <a:ext cx="1783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chfüh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Zertifizier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31560" y="5540400"/>
            <a:ext cx="37062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-Zertifizierung beantra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st-Zertifizierung durchfüh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ch-Zertifizierung(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30" name=""/>
            <p:cNvSpPr/>
            <p:nvPr/>
          </p:nvSpPr>
          <p:spPr>
            <a:xfrm>
              <a:off x="432720" y="366840"/>
              <a:ext cx="81259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ie sieht die charakteristische Vorgehensweise z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inführung eines Qualitätsmanagementsystems au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73160" y="1454040"/>
            <a:ext cx="6769080" cy="97812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67920" y="1654200"/>
            <a:ext cx="6379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NKOMPLEX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ktionsunternehmen 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enstleistungsunte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rot="10800000">
            <a:off x="1452960" y="2216160"/>
            <a:ext cx="5931000" cy="3720960"/>
          </a:xfrm>
          <a:custGeom>
            <a:avLst/>
            <a:gdLst>
              <a:gd name="textAreaLeft" fmla="*/ 219600 w 5931000"/>
              <a:gd name="textAreaRight" fmla="*/ 5711400 w 5931000"/>
              <a:gd name="textAreaTop" fmla="*/ 137520 h 3720960"/>
              <a:gd name="textAreaBottom" fmla="*/ 2971800 h 37209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57520" y="3178080"/>
            <a:ext cx="5403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...Die Beschreibung und Interpretation der Normenreihe war vornehmlich ausgerichtet auf Produktionsunter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ttlerweile haben Aktualisierungen der Normen (z. B. 1994) sowie deren I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etationen die Anwendbarkeit für Dienstle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im weitesten Sinne) wesentlich erleichter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38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3160" y="1454040"/>
            <a:ext cx="6769080" cy="978120"/>
          </a:xfrm>
          <a:prstGeom prst="octagon">
            <a:avLst>
              <a:gd name="adj" fmla="val 2928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387000" y="2063520"/>
            <a:ext cx="3492360" cy="3111480"/>
          </a:xfrm>
          <a:custGeom>
            <a:avLst/>
            <a:gdLst>
              <a:gd name="textAreaLeft" fmla="*/ 129240 w 3492360"/>
              <a:gd name="textAreaRight" fmla="*/ 3363120 w 3492360"/>
              <a:gd name="textAreaTop" fmla="*/ 115200 h 3111480"/>
              <a:gd name="textAreaBottom" fmla="*/ 2485080 h 31114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02480" y="2873520"/>
            <a:ext cx="309996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 Rasche Umsetzbark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 Ressourcenprobl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 Einschränkung notw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ger Flexibilitä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 Kostenprobl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-&gt; Gruppenzertifizier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67200" y="1730520"/>
            <a:ext cx="6533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NKOMPLEX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Kleine, mittlere, große Unterneh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10800000">
            <a:off x="6026040" y="2063520"/>
            <a:ext cx="3035520" cy="4330440"/>
          </a:xfrm>
          <a:custGeom>
            <a:avLst/>
            <a:gdLst>
              <a:gd name="textAreaLeft" fmla="*/ 112320 w 3035520"/>
              <a:gd name="textAreaRight" fmla="*/ 2923200 w 3035520"/>
              <a:gd name="textAreaTop" fmla="*/ 160200 h 4330440"/>
              <a:gd name="textAreaBottom" fmla="*/ 3458520 h 43304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40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85960" y="2949480"/>
            <a:ext cx="2680920" cy="36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 Ressourc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 Ansatz zu TQ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 Mangelnde Unt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ützung du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  Realisierung "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em Schrit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wier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-&gt; Zertifizierung einzel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ner (kundennah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    </a:t>
            </a:r>
            <a:r>
              <a:rPr b="1" lang="de-DE" sz="1800" spc="-1" strike="noStrike">
                <a:solidFill>
                  <a:srgbClr val="fc0128"/>
                </a:solidFill>
                <a:latin typeface="Arial"/>
              </a:rPr>
              <a:t>Abteil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48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11840" y="1920960"/>
            <a:ext cx="8357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ternehmensbefragung: Februar bis April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456000" y="3395520"/>
          <a:ext cx="241128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6000" y="3395520"/>
                    <a:ext cx="241128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510240" y="4038480"/>
          <a:ext cx="22748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0240" y="4038480"/>
                    <a:ext cx="22748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230120" y="5153040"/>
            <a:ext cx="63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06480" y="5153040"/>
            <a:ext cx="63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402320" y="5153040"/>
            <a:ext cx="632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18280" y="4672080"/>
            <a:ext cx="159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500 Mitarbe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18680" y="4595760"/>
            <a:ext cx="159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gt; 100 Mitarbe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14160" y="4672080"/>
            <a:ext cx="1595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 100 Mitarbe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474840" y="2717640"/>
          <a:ext cx="2266920" cy="17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4840" y="2717640"/>
                    <a:ext cx="2266920" cy="17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4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65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54480" y="1247760"/>
            <a:ext cx="7987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RMITTELTE PROBLEMBEREICHE </a:t>
            </a:r>
            <a:r>
              <a:rPr b="1" lang="en-US" sz="1600" spc="-1" strike="noStrike">
                <a:solidFill>
                  <a:srgbClr val="00279f"/>
                </a:solidFill>
                <a:latin typeface="Arial"/>
              </a:rPr>
              <a:t>(Basis: 85 Unternehm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Zeitplan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ethodenkompeten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aktische Umsetz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Schulung und Informationsvermittlung von Betriebsangehör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Verhalten der Leitung und der Vorgesetz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Einstellung (Psyche) von Betriebsangehör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Aufbau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Kos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Motivation der Betriebsangehöri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Dokumentation des Q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bleme während der Zertifiz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279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Probleme nach der Zertifizi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1301760"/>
            <a:ext cx="8217000" cy="5092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71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52280" y="6476760"/>
            <a:ext cx="88394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inführung von Qualitätsmanagementsystemen nach ISO 9000 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0760" y="441360"/>
            <a:ext cx="779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9040" y="1341360"/>
            <a:ext cx="2242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QUALITÄ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355760"/>
            <a:ext cx="33368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"...Differenz zwisc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nem SOLL und  IS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obei das S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om K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ert wird..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01840" y="1247760"/>
            <a:ext cx="8487000" cy="52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bereich: </a:t>
            </a:r>
            <a:r>
              <a:rPr b="1" lang="de-DE" sz="2400" spc="-1" strike="noStrike">
                <a:solidFill>
                  <a:srgbClr val="fc0128"/>
                </a:solidFill>
                <a:latin typeface="Arial"/>
              </a:rPr>
              <a:t>Zeitplan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usz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Zu wenig Zeit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urchführung der Schulung während der Arbeitszeit, obwohl verschied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itarbeiter nur schwierig aus dem Betrieb abgezogen werden kön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 wenig Zeit für Mitarbeiterschu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msetzungsprobleme durch Zeitm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us Zeitmangel werden Arbeitskreistermine nicht wahrgenom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ngelnde Zeit verringert Motivation und Kommunikation und verhind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as Aneignen von Wi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N ISO ist zur Zeit nur </a:t>
            </a: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ei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Projekt neben vie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Beteiligung von Mitarbeitern an Entscheidungs- und Gestalt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en erfordert Zeit, die allgemein knapp 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Bsp. Ist- und Sollzustandsanalys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5960" y="17524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77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1840" y="1247760"/>
            <a:ext cx="8422920" cy="52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bereich: </a:t>
            </a:r>
            <a:r>
              <a:rPr b="1" lang="de-DE" sz="2400" spc="-1" strike="noStrike">
                <a:solidFill>
                  <a:srgbClr val="fc0128"/>
                </a:solidFill>
                <a:latin typeface="Arial"/>
              </a:rPr>
              <a:t>Methodenkompetenz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usz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Unzureichende Qualifikation der Mitarbeiter bezüglich Lösungsfind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d -bewertu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hlende Mittel (Instrumentarien) zum Messen des Erfolges, der 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ment erzielt wird (z. B. Kundenzufriedenhe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handene Abläufe sinnvoll in ein Schema einordn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rstellen von Dokumentvordruc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wierigkeiten bei der Definition, Festlegung und Steuerung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te. (Was ist ein Dokument und was nicht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nkreten Anfang finden bei der Umsetzung und Dokumentation des Q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mulierung der Qualitätsziele für alle Bereiche, auch für d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aufmännische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wierigkeiten bei der Interpretation der N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5960" y="17524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83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73960" y="1247760"/>
            <a:ext cx="8713800" cy="523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bereich: </a:t>
            </a:r>
            <a:r>
              <a:rPr b="1" lang="de-DE" sz="2400" spc="-1" strike="noStrike">
                <a:solidFill>
                  <a:srgbClr val="fc0128"/>
                </a:solidFill>
                <a:latin typeface="Arial"/>
              </a:rPr>
              <a:t>Schulung und Info.-vermittlung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Ausz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"Die Schulungen über QM sind zu theoretisch. Verständliche, praktis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ispiele feh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 fehlen brauchbare Schulungskonzepte für die Mitarbeiter, wel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e Inhalte des QM behandeln und vermittel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hlende umfassende Information aller betroffenen Mitarbeiter ü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änderungen in Ihrem Bere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 den Schulungen sitzen Leute aus verkehrten Abteilungen, z. B. b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tragsprüfung (Ermittlung des Sollzustandes) waren Leute aus 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erkstatt anwe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or allem das Topmanagement verfügt über zu wenig QM-Fachwiss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fiziertes Fachpersonal fehlt, daß QM umsetzen kan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hlendes Grundwissen über QM bei Teilnehmern der Arbeitskreise, da n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lle an den ersten Schulungen teilnehmen konnten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5960" y="1752480"/>
            <a:ext cx="7912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89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"/>
          <p:cNvGraphicFramePr/>
          <p:nvPr/>
        </p:nvGraphicFramePr>
        <p:xfrm>
          <a:off x="504720" y="952560"/>
          <a:ext cx="8029800" cy="55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952560"/>
                    <a:ext cx="8029800" cy="55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4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295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rot="16200000">
            <a:off x="-1011960" y="2764800"/>
            <a:ext cx="3025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deutsamkeit der Problemfel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1047600" y="1371600"/>
          <a:ext cx="68454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7600" y="1371600"/>
                    <a:ext cx="68454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302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399960" y="1971720"/>
          <a:ext cx="8515440" cy="337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971720"/>
                    <a:ext cx="851544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"/>
          <p:cNvSpPr/>
          <p:nvPr/>
        </p:nvSpPr>
        <p:spPr>
          <a:xfrm>
            <a:off x="380880" y="1994040"/>
            <a:ext cx="0" cy="309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309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77800" y="14032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06320" y="5186520"/>
            <a:ext cx="1359000" cy="749160"/>
          </a:xfrm>
          <a:prstGeom prst="rightArrow">
            <a:avLst>
              <a:gd name="adj1" fmla="val 50000"/>
              <a:gd name="adj2" fmla="val 9071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436120" y="4541760"/>
            <a:ext cx="6475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DE" sz="1800" spc="-1" strike="noStrike">
                <a:solidFill>
                  <a:srgbClr val="00279f"/>
                </a:solidFill>
                <a:latin typeface="Arial"/>
              </a:rPr>
              <a:t>Ursächliche</a:t>
            </a: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 Problembereiche in Unternehm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die ein QMS nach DIN EN ISO 9000 ff. bereits ein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t haben, lagen in Problemen der "Zeitplanung"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unzureichender "Schulung und Informationsvermittlung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und unzureichender "Methodenkompetenz" bei Fach- </a:t>
            </a:r>
            <a:r>
              <a:rPr b="1" i="1" lang="de-DE" sz="1800" spc="-1" strike="noStrike">
                <a:solidFill>
                  <a:srgbClr val="00279f"/>
                </a:solidFill>
                <a:latin typeface="Arial"/>
              </a:rPr>
              <a:t>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ungskräfte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....Darüberhinaus wird sehr viel Zeit/Aufwand zur "Dok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mentation und Pflege" eines QMS betrieben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58760" y="366840"/>
            <a:ext cx="8826480" cy="820440"/>
            <a:chOff x="158760" y="366840"/>
            <a:chExt cx="8826480" cy="820440"/>
          </a:xfrm>
        </p:grpSpPr>
        <p:sp>
          <p:nvSpPr>
            <p:cNvPr id="316" name=""/>
            <p:cNvSpPr/>
            <p:nvPr/>
          </p:nvSpPr>
          <p:spPr>
            <a:xfrm>
              <a:off x="983880" y="366840"/>
              <a:ext cx="70257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elche typischen Probleme treten dabei in d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ternehmen auf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8760" y="387360"/>
              <a:ext cx="8826480" cy="7491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582480" y="1378080"/>
          <a:ext cx="8278920" cy="32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480" y="1378080"/>
                    <a:ext cx="8278920" cy="32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81200" y="1420920"/>
            <a:ext cx="7173720" cy="481464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1520" y="1455840"/>
            <a:ext cx="631224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antwortung der L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men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de-DE" sz="1800" spc="-1" strike="noStrike">
                <a:solidFill>
                  <a:srgbClr val="fafd00"/>
                </a:solidFill>
                <a:latin typeface="Arial"/>
              </a:rPr>
              <a:t>Vertrags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len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der Dokumente und 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 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ung und Rückverfolgbarkeit von 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von Qualitätsaufzei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 Qualitäts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234120" y="5640480"/>
            <a:ext cx="2755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nur End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34120" y="4268880"/>
            <a:ext cx="267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nur 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und Mo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34120" y="2058840"/>
            <a:ext cx="2679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/Entwicklu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ontage 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Kundendie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368720" y="380880"/>
            <a:ext cx="653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tion und Interpretation der 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1200" y="1420920"/>
            <a:ext cx="7173720" cy="481464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01520" y="1455840"/>
            <a:ext cx="6312240" cy="48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antwortung der Lei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ment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fafd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de-DE" sz="1800" spc="-1" strike="noStrike">
                <a:solidFill>
                  <a:srgbClr val="fafd00"/>
                </a:solidFill>
                <a:latin typeface="Arial"/>
              </a:rPr>
              <a:t>Vertrags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signlenk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der Dokumente und Da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 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ennzeichnung und Rückverfolgbarkeit von Produk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üf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enkung von Qualitätsaufzeichn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terne Qualitäts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34120" y="5640480"/>
            <a:ext cx="27558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nur Endprüf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34120" y="4268880"/>
            <a:ext cx="267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nur Produk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eaec5e"/>
                </a:solidFill>
                <a:latin typeface="Arial"/>
              </a:rPr>
              <a:t>und Mon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34120" y="2058840"/>
            <a:ext cx="26798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 EN ISO 9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Design/Entwicklung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Produk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Montage 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Kundendien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68720" y="380880"/>
            <a:ext cx="653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kumentation und Interpretation der N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52280" y="6476760"/>
            <a:ext cx="88394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inführung von Qualitätsmanagementsystemen nach ISO 9000 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760" y="441360"/>
            <a:ext cx="779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8680" y="1341360"/>
            <a:ext cx="3146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QUALITÄ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45440" y="3108240"/>
            <a:ext cx="274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ufgab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lan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nk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oordin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ommunizier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ach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örder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45440" y="1508040"/>
            <a:ext cx="318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fini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erantwort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46880" y="3108240"/>
            <a:ext cx="257796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52320" y="1281240"/>
            <a:ext cx="468648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"Damit in einem Unterneh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ualität auf Dauer gehal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d ständig verbesser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ann,ist ein bestimm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ystem notwendi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...In einem solch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üssen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Verantwortlichkei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indeutig festgelegt werde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e einzelnen </a:t>
            </a: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Arbeitsschri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klar sein und die benötig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Hilfsmittel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orhanden sein...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9240" y="1343160"/>
            <a:ext cx="3278160" cy="25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QUALITÄ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MANAGEM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9840" y="2292480"/>
            <a:ext cx="1587600" cy="326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18600" y="234000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ufb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16360" y="2292480"/>
            <a:ext cx="1587600" cy="326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94760" y="234000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blau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92880" y="2292480"/>
            <a:ext cx="1587240" cy="3263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3560" y="2340000"/>
            <a:ext cx="131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440" y="2949480"/>
            <a:ext cx="1618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wei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orderung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v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inbarunge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et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76760" y="3254400"/>
            <a:ext cx="1400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wei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360" y="3962520"/>
            <a:ext cx="1447920" cy="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17720" y="1994040"/>
            <a:ext cx="5384880" cy="386064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14400" y="1525680"/>
            <a:ext cx="559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eaec5e"/>
                </a:solidFill>
                <a:latin typeface="Arial"/>
              </a:rPr>
              <a:t>QUALITÄTS-MANAGEMENT-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53360" y="3962520"/>
            <a:ext cx="1295280" cy="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16160" y="2971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92680" y="2971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840" y="29718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18600" y="3102120"/>
            <a:ext cx="159516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truktu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antwor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ichke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95120" y="3102120"/>
            <a:ext cx="1633320" cy="25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chäf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schreib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 Arbei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chritte 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ihenfol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70200" y="3102120"/>
            <a:ext cx="1505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Üb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Qualit.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7360" y="213984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" y="218772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ufb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7360" y="412128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" y="416880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blau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16160" y="2139840"/>
            <a:ext cx="1587600" cy="326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840" y="2187720"/>
            <a:ext cx="131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76760" y="3254400"/>
            <a:ext cx="1400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wei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1841400"/>
            <a:ext cx="3860640" cy="386100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24360" y="3962520"/>
            <a:ext cx="4724280" cy="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36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3680" y="48006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24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93480" y="2949480"/>
            <a:ext cx="1505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Üb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Qualit.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7760" y="2368440"/>
            <a:ext cx="4178160" cy="2425680"/>
          </a:xfrm>
          <a:prstGeom prst="parallelogram">
            <a:avLst>
              <a:gd name="adj" fmla="val 4305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09880" y="2416320"/>
            <a:ext cx="278856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men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ndb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ahre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- und Prü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920" y="1449360"/>
            <a:ext cx="428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ÄTS-MANAGEMENT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7360" y="213984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" y="218772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ufb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7360" y="412128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" y="416880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blau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16160" y="2139840"/>
            <a:ext cx="1587600" cy="326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6840" y="2187720"/>
            <a:ext cx="131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76760" y="3254400"/>
            <a:ext cx="1400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wei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5240" y="1841400"/>
            <a:ext cx="3860640" cy="386100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3962520"/>
            <a:ext cx="4724280" cy="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6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3680" y="48006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24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3480" y="2949480"/>
            <a:ext cx="1505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Üb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Qualit.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64080" y="3206880"/>
            <a:ext cx="4178160" cy="2425680"/>
          </a:xfrm>
          <a:prstGeom prst="parallelogram">
            <a:avLst>
              <a:gd name="adj" fmla="val 4305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5840" y="3406680"/>
            <a:ext cx="19476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Qualitäts-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stem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ß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920" y="1449360"/>
            <a:ext cx="428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ÄTS-MANAGEMENT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546880" y="2803680"/>
            <a:ext cx="257796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7360" y="213984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" y="218772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ufbau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7360" y="4121280"/>
            <a:ext cx="1587600" cy="128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5760" y="4168800"/>
            <a:ext cx="155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Ablau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16160" y="2139840"/>
            <a:ext cx="1587600" cy="326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6840" y="2187720"/>
            <a:ext cx="1313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Führung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279f"/>
                </a:solidFill>
                <a:latin typeface="Arial"/>
              </a:rPr>
              <a:t>ele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53080" y="3102120"/>
            <a:ext cx="14007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achwei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ertifik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5240" y="1841400"/>
            <a:ext cx="3860640" cy="3861000"/>
          </a:xfrm>
          <a:prstGeom prst="rect">
            <a:avLst/>
          </a:prstGeom>
          <a:noFill/>
          <a:ln w="255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48040" y="3809880"/>
            <a:ext cx="4724640" cy="0"/>
          </a:xfrm>
          <a:prstGeom prst="line">
            <a:avLst/>
          </a:prstGeom>
          <a:ln w="7632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6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3680" y="48006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2480" y="281952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93480" y="2949480"/>
            <a:ext cx="1505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Üb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a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ilfsmit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ur Qualit.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okume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664080" y="996840"/>
            <a:ext cx="4178160" cy="2425680"/>
          </a:xfrm>
          <a:prstGeom prst="parallelogram">
            <a:avLst>
              <a:gd name="adj" fmla="val 4305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57600" y="1220760"/>
            <a:ext cx="1946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Qualitäts-Aud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ystem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zeß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dukt-Aud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20" y="1449360"/>
            <a:ext cx="428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ÄTS-MANAGEMENT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664080" y="4197240"/>
            <a:ext cx="4178160" cy="2425680"/>
          </a:xfrm>
          <a:prstGeom prst="parallelogram">
            <a:avLst>
              <a:gd name="adj" fmla="val 43054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55800" y="4321080"/>
            <a:ext cx="22705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Qualitätsmanag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nt-Handbu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erfahre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- und Prüf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weisun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560" y="442800"/>
            <a:ext cx="7789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s sind Qualitätsmanagementsysteme eigentlic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8760" y="387360"/>
            <a:ext cx="8826480" cy="520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8991360" cy="30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Fachhochschule Koblenz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1" lang="de-DE" sz="1200" spc="-1" strike="noStrike">
                <a:solidFill>
                  <a:srgbClr val="00279f"/>
                </a:solidFill>
                <a:latin typeface="Arial"/>
              </a:rPr>
              <a:t>     Prof. Dr.-Ing. Siegfried Schreu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666880" y="2971800"/>
            <a:ext cx="3049560" cy="1220760"/>
          </a:xfrm>
          <a:custGeom>
            <a:avLst/>
            <a:gdLst/>
            <a:ahLst/>
            <a:rect l="l" t="t" r="r" b="b"/>
            <a:pathLst>
              <a:path w="1921" h="769">
                <a:moveTo>
                  <a:pt x="432" y="0"/>
                </a:moveTo>
                <a:lnTo>
                  <a:pt x="0" y="768"/>
                </a:lnTo>
                <a:lnTo>
                  <a:pt x="1920" y="768"/>
                </a:lnTo>
                <a:lnTo>
                  <a:pt x="1488" y="0"/>
                </a:lnTo>
                <a:lnTo>
                  <a:pt x="432" y="0"/>
                </a:lnTo>
              </a:path>
            </a:pathLst>
          </a:custGeom>
          <a:solidFill>
            <a:srgbClr val="fde3b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4191120"/>
            <a:ext cx="4116240" cy="992160"/>
          </a:xfrm>
          <a:custGeom>
            <a:avLst/>
            <a:gdLst/>
            <a:ahLst/>
            <a:rect l="l" t="t" r="r" b="b"/>
            <a:pathLst>
              <a:path w="2593" h="625">
                <a:moveTo>
                  <a:pt x="2256" y="0"/>
                </a:moveTo>
                <a:lnTo>
                  <a:pt x="336" y="0"/>
                </a:lnTo>
                <a:lnTo>
                  <a:pt x="0" y="624"/>
                </a:lnTo>
                <a:lnTo>
                  <a:pt x="2592" y="624"/>
                </a:lnTo>
                <a:lnTo>
                  <a:pt x="2256" y="0"/>
                </a:lnTo>
              </a:path>
            </a:pathLst>
          </a:custGeom>
          <a:solidFill>
            <a:srgbClr val="fde3b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46880" y="3108240"/>
            <a:ext cx="257796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000" y="6602400"/>
            <a:ext cx="302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22000" y="3274920"/>
            <a:ext cx="1939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QM-Verfahren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nweisungen (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59680" y="4417920"/>
            <a:ext cx="3243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-Arbeitsanweisungen (A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blätter, Prüfanweisung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69960" y="2055960"/>
            <a:ext cx="319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fbauorganis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r ist für was verantwortlich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25360" y="3274920"/>
            <a:ext cx="2155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lauforganis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e ist vorzugeh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07320" y="4417920"/>
            <a:ext cx="3010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aillierte Arbeitsunterla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2627280"/>
            <a:ext cx="352440" cy="57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6400" y="3848040"/>
            <a:ext cx="35388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39640" y="3855960"/>
            <a:ext cx="118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verwe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82440" y="2712960"/>
            <a:ext cx="1189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verwe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8720" y="1951200"/>
            <a:ext cx="1382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85200" y="3551400"/>
            <a:ext cx="1201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WI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1523880"/>
            <a:ext cx="1677960" cy="1449360"/>
          </a:xfrm>
          <a:custGeom>
            <a:avLst/>
            <a:gdLst/>
            <a:ahLst/>
            <a:rect l="l" t="t" r="r" b="b"/>
            <a:pathLst>
              <a:path w="1057" h="913">
                <a:moveTo>
                  <a:pt x="528" y="0"/>
                </a:moveTo>
                <a:lnTo>
                  <a:pt x="0" y="912"/>
                </a:lnTo>
                <a:lnTo>
                  <a:pt x="1056" y="912"/>
                </a:lnTo>
                <a:lnTo>
                  <a:pt x="528" y="0"/>
                </a:lnTo>
              </a:path>
            </a:pathLst>
          </a:custGeom>
          <a:solidFill>
            <a:srgbClr val="fde3ba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91000" y="2284560"/>
            <a:ext cx="117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M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ndb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971800"/>
            <a:ext cx="4267080" cy="0"/>
          </a:xfrm>
          <a:prstGeom prst="line">
            <a:avLst/>
          </a:prstGeom>
          <a:ln w="5076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30492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92440" y="650880"/>
            <a:ext cx="299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M-Dok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08T11:38:58Z</dcterms:created>
  <dc:creator>Prof. Dr.-Ing. S. Schreuder</dc:creator>
  <dc:description/>
  <dc:language>en-US</dc:language>
  <cp:lastModifiedBy>CIM-11</cp:lastModifiedBy>
  <dcterms:modified xsi:type="dcterms:W3CDTF">2000-06-19T09:37:03Z</dcterms:modified>
  <cp:revision>17</cp:revision>
  <dc:subject>Qualitätsmanagement</dc:subject>
  <dc:title>Einführung von QMS nach ISO 9000 ff.</dc:title>
</cp:coreProperties>
</file>