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7C01-306D-4999-91EE-135AA7383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EC78-D3FB-4EF8-829C-51728C7EF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4BCE5-D05F-48F9-B737-0FD3C9AE0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252C-8A68-47DF-849D-ADD858DEA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E2309-D90B-45A6-A6CB-DAB6C94BE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02BBF-D988-4CCC-B849-64D4054B4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D76F-56B7-43A6-8C21-2528CC1BC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6636F-B0A7-4531-A89B-96ED44D6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DE9E-CAD0-4C35-9904-6E4A2B03D5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595E-475D-443E-8B78-14B92AA5D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0F5FD-12A4-4C6F-AA06-0F9EBF27E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2B27-7A50-408C-828B-162C1BC17C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010040" y="6552720"/>
            <a:ext cx="487440" cy="10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ite </a:t>
            </a:r>
            <a:fld id="{91AEC172-9BED-4329-9270-B5FE208988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762120"/>
            <a:ext cx="88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V="1">
            <a:off x="152280" y="6476760"/>
            <a:ext cx="87631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36560" y="892080"/>
            <a:ext cx="83376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4440" y="65214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egfried schreu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488200" cy="37864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89840" y="2362320"/>
            <a:ext cx="4047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600" spc="-1" strike="noStrike">
                <a:solidFill>
                  <a:srgbClr val="000000"/>
                </a:solidFill>
                <a:latin typeface="Arial"/>
              </a:rPr>
              <a:t>(Re-)Engineering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00" y="40464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R - Allgemeine Vorgehenswe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83808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1. Ermittlung des zukünftigen Leistungsportfoli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lche Leistungen (Services, Dienstleistungen, ....) sollen zukünfti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geboten werden?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2. Ermittlung der Prozeßketten für die entsprechenden Leistung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lche Prozesse (namentlich) sollen in charakteristischer Reihenfolge ein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sprechende Leistung liefern?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3. Festlegung der Kernprozess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Entsprechend Leistungsportfolio, Wertschöpfung, Wettbewerbsfähigkeit, Risiko,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4. Beschreibung der Kernproz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5. Optimierung der Prozeßket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6. Erstellung von Rollen-/Stellenbeschreib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7. Aufbau eines Prozeßcont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zeßgütekennzahlen, Prozeßziele, Controllingsystem,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 u="sng">
                <a:solidFill>
                  <a:srgbClr val="3333cc"/>
                </a:solidFill>
                <a:uFillTx/>
                <a:latin typeface="Arial"/>
              </a:rPr>
              <a:t>8. Einführung der Proz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20" y="40464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R - Auslö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320" y="914400"/>
            <a:ext cx="825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Informatisierung verändert Prozesse, Führung, Produkte, zwischenbetriebl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ordination und Märkte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35320" y="1676520"/>
            <a:ext cx="8395920" cy="4664880"/>
            <a:chOff x="535320" y="1676520"/>
            <a:chExt cx="8395920" cy="4664880"/>
          </a:xfrm>
        </p:grpSpPr>
        <p:sp>
          <p:nvSpPr>
            <p:cNvPr id="82" name=""/>
            <p:cNvSpPr/>
            <p:nvPr/>
          </p:nvSpPr>
          <p:spPr>
            <a:xfrm>
              <a:off x="535320" y="1676520"/>
              <a:ext cx="1794600" cy="42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Aspe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sricht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k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ichwe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rg.-Strukt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triebsgröß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ühr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ührungsgröß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bläu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novationstreib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ze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tarbei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06760" y="1692360"/>
              <a:ext cx="6324480" cy="423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Industriegesellschaft</a:t>
              </a:r>
              <a:r>
                <a:rPr b="0" lang="de-DE" sz="1600" spc="-1" strike="noStrike">
                  <a:solidFill>
                    <a:srgbClr val="3333cc"/>
                  </a:solidFill>
                  <a:latin typeface="Arial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"/>
                </a:rPr>
                <a:t>Informationsgesellsch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nensicht: Funktion und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ßensicht: Prozeßleistung und Produkt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un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ategi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ategie und operative Abläu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nternehmen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etzwerk von Unternehm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eile Hierarchi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lach, vernetzte Teams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roß, monolitisch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lein, modul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remdgesteuert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trapreneur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inanzgrößen insbes.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inanz- und Prozeßgrößen insb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osten und Umsatz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Zeit und Qualit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equentiell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ärker parall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nformationstechnik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eschä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Komplex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infa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pezialisierung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anzheitliche Sachbearbeit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5320" y="20732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5320" y="26827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5320" y="29876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5320" y="32162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5320" y="34448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320" y="36734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5320" y="390204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25320" y="443556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5320" y="466416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5320" y="49687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5320" y="54259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5320" y="5883120"/>
              <a:ext cx="769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21960" y="6004080"/>
              <a:ext cx="404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Paradigmenwechsel in der Organis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20" y="40464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R - Begriffsverständ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320" y="914400"/>
            <a:ext cx="825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Informatisierung verändert Prozesse, Führung, Produkte, zwischenbetriebli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oordination und Märkte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000" y="2465280"/>
            <a:ext cx="10239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usiness (Re-) Enginee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ansformiert die Industriegesellscha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die Informationsgesellschaft.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beschäftigt sich mit der Gestaltung/Entwicklung auf folge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benen eines Unternehme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chäftsstrategi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ntern.-Struktur, Geschäftsfelder, Erfolgsfaktoren,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rozess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zeßbeschreibungen, Leistungen, Aufgaben, Roll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rantwortlichkeiten, 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ssysteme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Verantwortlichkeiten, Zugriffsrecht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alogflüsse, Bildschirmmasken, Attribute, ....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1676520"/>
            <a:ext cx="1981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20" y="40464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R - Begriffsverständ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5200" y="2465280"/>
            <a:ext cx="802332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Business Process Reengineering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eschäftigt sich in dies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Zusammenhang mit der Gestaltung / Entwicklung 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33cc"/>
                </a:solidFill>
                <a:latin typeface="Arial"/>
              </a:rPr>
              <a:t>Geschäftsprozess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ozeßbeschreibungen, Leistungen, Aufgaben, Rollen, Verantwortlichkeiten, ..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1676520"/>
            <a:ext cx="1981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36480" y="1066680"/>
            <a:ext cx="35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usiness (Re-) Engine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80" y="404640"/>
            <a:ext cx="22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PR - Ansä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38480" y="2438280"/>
            <a:ext cx="1298520" cy="2792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44920" y="1523880"/>
            <a:ext cx="29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olution nicht Evolutio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9160" y="3886200"/>
            <a:ext cx="400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ernkompetenzen fördern / ausweite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e anderen Prozesse automatisier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der outsourc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3200" y="5562720"/>
            <a:ext cx="31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zeßbedingungen we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geleitet aus Erfolgsfaktor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7000" y="3762360"/>
            <a:ext cx="2096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cess-/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wnership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2600" y="2590920"/>
            <a:ext cx="32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ick nach vorne nicht zurück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11430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nden - Lieferantenbeziehung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24240" y="5073480"/>
            <a:ext cx="25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en statt Schätzen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19494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undenorientierung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4829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zesse entlang 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rtschöpfungskette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7440" y="378000"/>
            <a:ext cx="25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R - Kapazitätsa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1447920"/>
            <a:ext cx="6172200" cy="4190760"/>
            <a:chOff x="457200" y="1447920"/>
            <a:chExt cx="6172200" cy="4190760"/>
          </a:xfrm>
        </p:grpSpPr>
        <p:sp>
          <p:nvSpPr>
            <p:cNvPr id="118" name=""/>
            <p:cNvSpPr/>
            <p:nvPr/>
          </p:nvSpPr>
          <p:spPr>
            <a:xfrm>
              <a:off x="593280" y="1600200"/>
              <a:ext cx="556668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elmäßige, bekannte Arbeitsanford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=&gt; Tätigkeiten, die immer wieder in gleicher Weise vorkomm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160" y="4343400"/>
              <a:ext cx="532152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ußerplanmäßige, unbekannt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beitsanford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=&gt; Spezielle nichtvorhersehbare Tätigkeiten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8640" y="2209680"/>
              <a:ext cx="252468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-Verteil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W-Installa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örungsbehebung mit S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örungen von S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0000" y="4876920"/>
              <a:ext cx="4540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igrationen / Anpassungen an neue Software-Stän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signänderung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1447920"/>
              <a:ext cx="6172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4191120"/>
              <a:ext cx="61722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63600" y="3505320"/>
              <a:ext cx="53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629400" y="1447920"/>
            <a:ext cx="2209680" cy="4190760"/>
            <a:chOff x="6629400" y="1447920"/>
            <a:chExt cx="2209680" cy="4190760"/>
          </a:xfrm>
        </p:grpSpPr>
        <p:grpSp>
          <p:nvGrpSpPr>
            <p:cNvPr id="126" name=""/>
            <p:cNvGrpSpPr/>
            <p:nvPr/>
          </p:nvGrpSpPr>
          <p:grpSpPr>
            <a:xfrm>
              <a:off x="6629400" y="1447920"/>
              <a:ext cx="2209680" cy="2209680"/>
              <a:chOff x="6629400" y="1447920"/>
              <a:chExt cx="2209680" cy="2209680"/>
            </a:xfrm>
          </p:grpSpPr>
          <p:sp>
            <p:nvSpPr>
              <p:cNvPr id="127" name=""/>
              <p:cNvSpPr/>
              <p:nvPr/>
            </p:nvSpPr>
            <p:spPr>
              <a:xfrm>
                <a:off x="6629400" y="1447920"/>
                <a:ext cx="2209680" cy="22096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784200" y="2133720"/>
                <a:ext cx="1713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X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Arbeitsaufwan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6629400" y="4191120"/>
              <a:ext cx="2209680" cy="1447560"/>
              <a:chOff x="6629400" y="4191120"/>
              <a:chExt cx="2209680" cy="1447560"/>
            </a:xfrm>
          </p:grpSpPr>
          <p:sp>
            <p:nvSpPr>
              <p:cNvPr id="130" name=""/>
              <p:cNvSpPr/>
              <p:nvPr/>
            </p:nvSpPr>
            <p:spPr>
              <a:xfrm>
                <a:off x="6629400" y="4191120"/>
                <a:ext cx="2209680" cy="14475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784200" y="4572000"/>
                <a:ext cx="171396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Y %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Arbeitsaufwand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9960" y="378000"/>
            <a:ext cx="51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R - Konsequenzen aus dem Kapazitätsansat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57200" y="1447920"/>
            <a:ext cx="8381880" cy="4190760"/>
            <a:chOff x="457200" y="1447920"/>
            <a:chExt cx="8381880" cy="4190760"/>
          </a:xfrm>
        </p:grpSpPr>
        <p:sp>
          <p:nvSpPr>
            <p:cNvPr id="134" name=""/>
            <p:cNvSpPr/>
            <p:nvPr/>
          </p:nvSpPr>
          <p:spPr>
            <a:xfrm>
              <a:off x="618120" y="1600200"/>
              <a:ext cx="462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gelmäßige, bekannte Arbeitsanford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4800" y="4343400"/>
              <a:ext cx="5423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usserplanmäßige, unbekannte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Arbeitsanforderun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1447920"/>
              <a:ext cx="6172200" cy="2209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4191120"/>
              <a:ext cx="617220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3600" y="3505320"/>
              <a:ext cx="537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629400" y="1447920"/>
              <a:ext cx="2209680" cy="4190760"/>
              <a:chOff x="6629400" y="1447920"/>
              <a:chExt cx="2209680" cy="419076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629400" y="1447920"/>
                <a:ext cx="2209680" cy="2209680"/>
                <a:chOff x="6629400" y="1447920"/>
                <a:chExt cx="2209680" cy="2209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629400" y="1447920"/>
                  <a:ext cx="2209680" cy="220968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84200" y="2133720"/>
                  <a:ext cx="1713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X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Arbeitsaufwan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629400" y="4191120"/>
                <a:ext cx="2209680" cy="1447560"/>
                <a:chOff x="6629400" y="4191120"/>
                <a:chExt cx="2209680" cy="144756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629400" y="4191120"/>
                  <a:ext cx="2209680" cy="14475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84200" y="4572000"/>
                  <a:ext cx="171396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0000"/>
                      </a:solidFill>
                      <a:latin typeface="Arial"/>
                    </a:rPr>
                    <a:t>Y 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(Arbeitsaufwan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6" name=""/>
          <p:cNvSpPr/>
          <p:nvPr/>
        </p:nvSpPr>
        <p:spPr>
          <a:xfrm>
            <a:off x="614880" y="2133720"/>
            <a:ext cx="50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Effizientes Management und Abwicklung mitt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definierter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Geschäftsproz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1920" y="4800600"/>
            <a:ext cx="476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Bestmögliche Abwicklung durch Kontin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Arial"/>
              </a:rPr>
              <a:t>an qualifizierten Ressourcen</a:t>
            </a:r>
            <a:r>
              <a:rPr b="1" i="1" lang="de-DE" sz="1800" spc="-1" strike="noStrike">
                <a:solidFill>
                  <a:srgbClr val="3333cc"/>
                </a:solidFill>
                <a:latin typeface="Arial"/>
              </a:rPr>
              <a:t> ( „Kümmerer“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80" y="304920"/>
            <a:ext cx="63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R - Abgeleitete Anforderungen am die Arbeits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840" y="4952880"/>
            <a:ext cx="3332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qualitativ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planbar auf Basis 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Prozeßbeschreib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quantitativ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planbar und steuerb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uf Basis von Prozeßkennzahl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19720" y="990720"/>
            <a:ext cx="4495320" cy="3225600"/>
            <a:chOff x="4419720" y="990720"/>
            <a:chExt cx="4495320" cy="322560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5181480" y="2590920"/>
              <a:ext cx="2133720" cy="16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4419720" y="1447920"/>
              <a:ext cx="449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So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wenig</a:t>
              </a: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 wie möglich „Feuerwehr“ se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für unerwartete, unbekannte Situ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mit hoffentlich zufriedenstellenden Ergebnisse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2600" y="990720"/>
              <a:ext cx="196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800" spc="-1" strike="noStrike">
                  <a:solidFill>
                    <a:srgbClr val="ff0000"/>
                  </a:solidFill>
                  <a:latin typeface="Arial"/>
                </a:rPr>
                <a:t>„</a:t>
              </a:r>
              <a:r>
                <a:rPr b="1" i="1" lang="de-DE" sz="1800" spc="-1" strike="noStrike">
                  <a:solidFill>
                    <a:srgbClr val="ff0000"/>
                  </a:solidFill>
                  <a:latin typeface="Arial"/>
                </a:rPr>
                <a:t>Kümmerertum“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421160" y="4952880"/>
            <a:ext cx="4326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ff0000"/>
                </a:solidFill>
                <a:latin typeface="Arial"/>
              </a:rPr>
              <a:t>qualitativ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nicht sicher plan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de-DE" sz="1600" spc="-1" strike="noStrike">
                <a:solidFill>
                  <a:srgbClr val="ff0000"/>
                </a:solidFill>
                <a:latin typeface="Arial"/>
              </a:rPr>
              <a:t>quantitativ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planbar auf Basis von Störung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äufigkeiten aus der Vergangenheit 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subjektiven Einschätzungen; nicht steuer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06360" y="990720"/>
            <a:ext cx="3960720" cy="3276360"/>
            <a:chOff x="306360" y="990720"/>
            <a:chExt cx="3960720" cy="3276360"/>
          </a:xfrm>
        </p:grpSpPr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066680" y="2590920"/>
              <a:ext cx="130824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306360" y="1447920"/>
              <a:ext cx="39070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So </a:t>
              </a:r>
              <a:r>
                <a:rPr b="1" lang="en-US" sz="1600" spc="-1" strike="noStrike">
                  <a:solidFill>
                    <a:srgbClr val="3333cc"/>
                  </a:solidFill>
                  <a:latin typeface="Arial"/>
                </a:rPr>
                <a:t>viel</a:t>
              </a: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 wie möglich in bekannte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effizienten, weitestgehend automatisch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beherrschten Arbeitsabläufen m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zuverlässigen Ergebnissen tätig sei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440" y="990720"/>
              <a:ext cx="235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rozeßmanag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67080" y="990720"/>
              <a:ext cx="0" cy="32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267080" y="48769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80880" y="4343400"/>
            <a:ext cx="8458200" cy="457200"/>
            <a:chOff x="380880" y="4343400"/>
            <a:chExt cx="8458200" cy="457200"/>
          </a:xfrm>
        </p:grpSpPr>
        <p:sp>
          <p:nvSpPr>
            <p:cNvPr id="162" name=""/>
            <p:cNvSpPr/>
            <p:nvPr/>
          </p:nvSpPr>
          <p:spPr>
            <a:xfrm>
              <a:off x="1152360" y="4419720"/>
              <a:ext cx="607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onsequenzen für die Ressourcen- / Personaleinsatzplan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0880" y="4343400"/>
              <a:ext cx="8458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514600" y="457200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Globale Verantwortlichkeiten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(„Ansprechpartner sein für...“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m Falle eines Stör-Falles „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euerwehr“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sein,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447920"/>
            <a:ext cx="160020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4419720"/>
            <a:ext cx="160020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7760" y="2133720"/>
            <a:ext cx="1072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Proz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X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94240" y="4572000"/>
            <a:ext cx="139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Kümmerer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0000"/>
                </a:solidFill>
                <a:latin typeface="Arial"/>
              </a:rPr>
              <a:t>Y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200" y="304920"/>
            <a:ext cx="603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PR - Ansatz für ein effizientes Management der Kapazitä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21080" y="1676520"/>
            <a:ext cx="5689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Ressourcenplanung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auf Basis von art- und mengenmäß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planbaren/steuerbaren Geschäftsproze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Controlling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über prozeßbezogene Performancepara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Kontinuierliche, systematische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Optimierung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der Geschäft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proze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Zuverlässige, ergebnisorientierte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Kunden-Lieferanten</a:t>
            </a: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3333cc"/>
                </a:solidFill>
                <a:latin typeface="Arial"/>
              </a:rPr>
              <a:t>bezieh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447920"/>
            <a:ext cx="457200" cy="396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16800">
            <a:off x="-739440" y="32400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samt-Kapazität  100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1447920"/>
            <a:ext cx="594360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0" y="3962520"/>
            <a:ext cx="647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419720"/>
            <a:ext cx="5943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4T10:20:34Z</dcterms:created>
  <dc:creator>Prof. Dr. Siegfried Schreuder</dc:creator>
  <dc:description/>
  <dc:language>en-US</dc:language>
  <cp:lastModifiedBy>CIM-11</cp:lastModifiedBy>
  <dcterms:modified xsi:type="dcterms:W3CDTF">2000-07-24T12:19:21Z</dcterms:modified>
  <cp:revision>27</cp:revision>
  <dc:subject/>
  <dc:title>Kein Folientitel</dc:title>
</cp:coreProperties>
</file>